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E2BE-C892-42E0-93CC-744D9E1A1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3700-2B42-4877-83AB-505F6D47E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9a | General Government Expenditures as a Percentage of GDP, 1993 and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EE7-EA07-42F8-9B5F-F24BEDD5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1845-EAC2-40A1-A362-D6E8FEA9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85D8-9C9D-4B0B-AFD6-44F6924D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A26-8644-4681-BA16-8B85B232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C941-E839-4C17-9948-EC5F3DAE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2EA8-74FE-407B-85E7-8F9F10F2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010A-F62A-4B11-9DC6-FB9FA368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AEF6-772A-4F8D-8389-DEC28499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901C-FC27-40D3-BAE2-9B790F4E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1813-89CC-4C77-B7DD-9F5E1DAF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FB3C-8F74-41DF-96FB-C08C7D0E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DCFE-B77F-4104-BBFD-1AD25000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523C-9E3E-4033-97BD-FD794ED0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6761-B7A1-4EE0-981C-E503A414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4DF3-A74B-4339-A668-43F557F1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5AA8-1FAB-4C7E-B10C-816F4282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D6F2-5AF9-4C3A-914F-8BDD0CE4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486-DEEA-413B-A361-A1484876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239-FDA6-4449-9846-F04B01B9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FA08-E3D5-4871-860E-03DA1BEE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F99E-A2D6-44D2-BFC9-F4C43BB8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95C-D811-48B5-8CCD-14763E06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4A94-E6AB-4942-B08D-19AB69C1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33EC-09FA-4931-8876-302D446B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5A5B-0D0E-47A5-8E0C-38398C3977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7F82-7979-4587-BDEF-3F67419A59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9a | U.S. has a lower burden of government relative to its major G7 competi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380880" y="1924200"/>
            <a:ext cx="8377200" cy="4933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2209680" y="57913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eneral government spending (all levels) as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9a | U.S. has a lower burden of government relative to its major G7 competitors </dc:description>
  <dc:language>en-US</dc:language>
  <cp:lastModifiedBy>Jia Yao</cp:lastModifiedBy>
  <dcterms:modified xsi:type="dcterms:W3CDTF">2013-09-23T19:14:4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9a | U.S. has a lower burden of government relative to its major G7 competitors </vt:lpwstr>
  </property>
</Properties>
</file>