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89F4-DC44-4E8E-A1E6-8A6826CCF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CC91-74CF-4FB7-8AE7-374E30D901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9b | Government Health Spending (all levels) as Percentage of GDP, 2002 and 206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Tahoma"/>
              </a:rPr>
              <a:t>Source: Kotlikoff and Hagist, Who’s Going Broke? Comparing Healthcare Costs in Ten OECD Coun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Tahoma"/>
              </a:rPr>
              <a:t>NBER Working Paper 1183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CAA0-42A2-48D3-8A2E-EF2A28EA2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651B-528C-471F-90D4-190A13DD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D074-5F9F-4E7A-938D-52583AA2B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5CEB-2A8E-4797-B840-C21307D7C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2D4DF-22A0-4223-B6F7-ABCBB89CF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CD2E-45E2-4F30-8216-162F31B9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5342-6E0B-49A9-9C60-59C95C81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61C2-8C40-4662-B924-8B3DC655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ED31-A3AD-4FEB-87C5-D05DEA7A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7B27A-D2AA-456D-9ECF-F24399CF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4B69-3D89-46C3-830B-CCD4779D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5672-4854-4FB9-8C72-FC4E6D09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176C-3826-4EA3-8BB2-9D12FE69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C683-43E1-4399-B69B-C1E39AAC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DFA8-9F9A-4D8D-A2FF-4F131178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799F-9048-4BB1-B059-7C13EB498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3757-3F0F-4A10-B361-8CAF24C02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6717-0912-4A9A-88CF-3C5CD69D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1A7C-2D7C-43AF-ABCA-7A9550CB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78BF-047E-48C0-9C88-30F988CC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137B-B419-4D1B-972A-2F9ABFD4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2C6E-44C5-423A-857B-3B40223B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3DA1-0364-4C80-91C6-D0FED2D8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074C-DAFE-4A03-85B9-946D2AF4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02EF-3D1B-4BDE-BAC5-2D9FD30859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9569-4E97-461A-9650-94012024FC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380880" y="1397160"/>
            <a:ext cx="8377200" cy="49273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447840" y="5715000"/>
            <a:ext cx="8696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figures calculated assuming age-adjusted health benefit rates grow at historic rates for 60 yea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9b | But rapid growth in government-paid health care threatens to eradicate this margin of advant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2286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576720" y="6095880"/>
            <a:ext cx="797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gist C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L Kotlikoff. Who’s Going Broke? Comparing Healthcare Costs 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n OECD Countries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BER Working Pap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. 11833. December 200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2209680" y="5334120"/>
            <a:ext cx="54864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overnment health spending (all levels) as 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9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9b | But rapid growth in government-paid health care threatens to eradicate this margin of advantage</dc:description>
  <dc:language>en-US</dc:language>
  <cp:lastModifiedBy>Jia Yao</cp:lastModifiedBy>
  <dcterms:modified xsi:type="dcterms:W3CDTF">2013-09-23T19:14:44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9b | But rapid growth in government-paid health care threatens to eradicate this margin of advantage</vt:lpwstr>
  </property>
</Properties>
</file>