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52A-15FD-422F-90D9-17498923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F3E-DC2D-4BE4-BF46-718FBAA3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9E4-E001-4026-B93B-4A1B2D9B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FCA-28DA-4CEF-BFC5-E2529616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2BD-04C7-4798-8673-1C00A97C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1F1-0B1A-4D58-8C5D-9902AB33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601-B228-4D1A-AB71-883DEDDE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B96-F6A0-45F1-BDB6-3CFE75AE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425-1A18-4B96-B36A-08DDACD9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B60-DFE8-412E-BC42-B34A24E2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F22-E615-45CE-8A50-99267E32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0DF-03A7-4B49-9116-DD0A892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9DCD-53AE-4A41-8B41-8702F5415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28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8Z</dcterms:modified>
  <cp:revision>44</cp:revision>
  <dc:subject/>
  <dc:title>PowerPoint Presentation</dc:title>
</cp:coreProperties>
</file>