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DED6-85B5-4B59-9953-F15F3AD761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8B | NUMBER OF COVERED WORKERS PER SOCIAL SECURITY BENEFICIARY, 1960-208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F631-99C6-4B4A-B480-1F891FB586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88DA-12D1-47EB-86C6-B5B84CCE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FA3B-495E-4BE5-97E9-F631CEDC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6D7B-93A2-4EA9-A1E3-69C514E03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2B09-A07A-4CA7-B034-50F2B1B1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C70A-6517-4455-8574-D339C3E6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8A10-4B1D-45CD-ADED-796FD457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C9FE-0548-4262-B8FA-05495CB4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18AD-9C70-4CAC-929A-0E012264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B67D-C6E7-4A53-B0BF-F1391C66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24BE-D5F2-4FE1-AEE6-BEA53FE6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5F0B-9C37-40EF-8D4B-AAD13005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9A09-BBD5-4F09-ABB6-08A8F951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E669-2A21-487E-A96D-CABB89DEF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8b | The number of covered workers per Social Security beneficiary is expected to decline even under the most optimistic assum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825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447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overed workers per OASDI benefici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620280" y="5934240"/>
            <a:ext cx="747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Social Security Administration. Table IV.B2.- Covered Workers and Beneficiaries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lendar Years 1945-2090. Available at: http://ssa.gov/OACT/tr/2012/lr4b2.htm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accessed September 1, 2013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8b | The number of covered workers per Social Security beneficiary is expected to decline even under the most optimistic assumptions</dc:description>
  <dc:language>en-US</dc:language>
  <cp:lastModifiedBy>Jia Yao</cp:lastModifiedBy>
  <dcterms:modified xsi:type="dcterms:W3CDTF">2013-09-23T19:14:37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8b | The number of covered workers per Social Security beneficiary is expected to decline even under the most optimistic assumptions</vt:lpwstr>
  </property>
</Properties>
</file>