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622C-C8B0-4CFB-9E3D-FF8CC80F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E9B-C76B-42D2-90EC-889DDBD0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100B-F105-4920-A0D9-92ED9E87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752-1085-4905-97FC-E9309D18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6B5-C877-45FE-9FF0-6F7117AC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982-3925-4FC0-B3DD-2BFF0257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067-7F70-4AD8-891F-2C762300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045-C9A3-4BB8-92BA-5E871ADF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BF1-1EE4-4B5D-B21C-F75783B3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193-FF8A-40A7-BFD1-88D15A3F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153-C537-4561-A81A-8AB57AEB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429-5128-4ECF-9FC0-5175582D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21FD-7B3D-4CEA-AE7E-1E56B42DB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4:31Z</dcterms:modified>
  <cp:revision>46</cp:revision>
  <dc:subject/>
  <dc:title>PowerPoint Presentation</dc:title>
</cp:coreProperties>
</file>