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2394-A246-42DE-AF40-0668B4A44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C | RATIO OF ELDERLY PER CAPITA HEALTH SPENDING TO AVERAGE ANNUAL EARNINGS OF PRODUCTION WORKERS IN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8468-890C-4305-973B-77BE0C7699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A0F7-3C7C-40C1-B34B-E3FDD732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8B2A-532F-4AC2-9390-F7F5E54A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3DF6-1911-49BB-87EF-93FC3B39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F37D-B837-4D8D-A2AF-ADBD6941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DCA2-F506-47A4-9DB5-4796D40E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3C21-9CCC-44C2-8744-19D20AB1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6083-843E-4242-A03A-789D9092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8964-D516-4979-B8A0-FECD8E99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C633-1057-430C-BFEF-753FAE77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482-716C-4710-8F96-8E4E0444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C285-CF00-4FE3-B1C9-F812919C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A111-6F8E-4561-B73F-844726E1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8937-B0F2-4755-BCCD-959F9EB5E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c | Relative to competitors, U.S. health spending per elderly person is a much higher share of average manufacturing compen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47840" y="1643040"/>
            <a:ext cx="83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lderly health spending as a percentage of average annual compensation in manufacturing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c | Relative to competitors, U.S. health spending per elderly person is a much higher share of average manufacturing compensation</dc:description>
  <dc:language>en-US</dc:language>
  <cp:lastModifiedBy>Jia Yao</cp:lastModifiedBy>
  <dcterms:modified xsi:type="dcterms:W3CDTF">2013-09-23T19:14:39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c | Relative to competitors, U.S. health spending per elderly person is a much higher share of average manufacturing compensation</vt:lpwstr>
  </property>
</Properties>
</file>