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41BD4-A6F9-4747-848A-80918A5E7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931A8-C3B4-4D79-B814-E1043A8DF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1A878-4AEE-4D6B-B295-FEEB43D79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A8EE5-49B1-48D4-BDC7-BF40536BC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7C7D4-8E98-4C57-8FE2-17EFEC767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7AF95-C2D6-4B5D-A1BD-F8AC3092F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C029B-C429-47DB-8931-DE9B939A9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93B34-1223-442C-AA23-7FA7154E3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F85A8-786F-4606-9CB9-1EF1B420A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12F04-C691-4E90-9708-6C250204A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CA6F5-BD93-4819-AB93-97A9D72E7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281E8-9F3C-41C9-B225-C838B1B60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0D19A-E46A-4905-A33F-DB578E09CF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87480" y="838080"/>
            <a:ext cx="896904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23:25Z</dcterms:modified>
  <cp:revision>45</cp:revision>
  <dc:subject/>
  <dc:title>PowerPoint Presentation</dc:title>
</cp:coreProperties>
</file>