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2B5-7F87-426E-96BD-34B424D87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1F75-7774-4611-8CB4-BCA50F5B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84E-965D-497F-8FF8-AEA00E2A9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1187-0158-4916-A8E6-011D8420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CBB-B54B-4A36-9850-417BCD5C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FAF-89EB-4749-A849-133A997D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4611-5AC9-47B9-BC1E-8A7ED270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FFF-A05B-4ECA-9C5E-AA19B42D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1E0A-BFC2-457D-B315-8A575BE8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B54-0B4C-4933-A06A-446F5D24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7B5-978B-4FFD-9242-389C0F5F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2BFF-9CBD-42FF-9A03-19ADC9D2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1DC8-3C39-44FB-852F-9AD4B4A8A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5160" y="1676520"/>
            <a:ext cx="90136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6Z</dcterms:modified>
  <cp:revision>45</cp:revision>
  <dc:subject/>
  <dc:title>PowerPoint Presentation</dc:title>
</cp:coreProperties>
</file>