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5862-CC1C-4ADD-94E3-D0F23280E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B | NUMBER OF COVERED WORKERS PER SOCIAL SECURITY BENEFICIARY, 1960-208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8413-D5EE-46AD-835B-2E64807E6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C655-7DEF-46F9-AB5D-DF38F057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5EF-7EA5-408E-B08F-2DAFF53F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7587-EEFA-45E0-9693-B5B9FC77E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E632-D0BF-4A87-AB17-EC49638C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0C8-36CA-4C7C-A120-20A7ED20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0D8-F6DB-4AF9-9011-4C71E3250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4AC1-924A-4223-ABAE-B8F6DFA5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D3FE-3754-4928-908E-E6742821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1B28-5071-4C18-B194-CC22121F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E934-888D-44A5-816F-37564F0E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446-D934-4465-A257-D5DF210D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7CA-7248-45F0-8F6D-83FC16FC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61F-BDB2-4B0D-BF08-C4034572E7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b | The number of covered workers per Social Security beneficiary is expected to decline even under the most optimistic assum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762120" y="1447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overed workers per OASDI benefici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620280" y="5934240"/>
            <a:ext cx="747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Social Security Administration. Table IV.B2.- Covered Workers and Beneficiaries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lendar Years 1945-2090. Available at: http://ssa.gov/OACT/tr/2012/lr4b2.htm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accessed September 1, 2013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b | The number of covered workers per Social Security beneficiary is expected to decline even under the most optimistic assumptions</dc:description>
  <dc:language>en-US</dc:language>
  <cp:lastModifiedBy>Jia Yao</cp:lastModifiedBy>
  <dcterms:modified xsi:type="dcterms:W3CDTF">2013-09-23T19:14:37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b | The number of covered workers per Social Security beneficiary is expected to decline even under the most optimistic assumptions</vt:lpwstr>
  </property>
</Properties>
</file>