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BEEF-B3F4-4221-A978-0DBAE477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804-9FA3-4D5F-B88C-49A5348B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223B-54E5-427A-9D8A-23ECA0D8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E8A-326E-47E1-A902-193C5764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BBC6-87FB-4830-8B78-24034DA1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BC41-F26A-495D-ABAB-1A71731E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508-D14D-4185-9FF6-086E97B7E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4026-29DF-455E-8968-B03B41F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D42-127A-49B0-8193-EA6A8A44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328-DFED-4929-A240-1EFBE897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3CD8-3834-48C5-847A-51128F1C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384-5630-4692-8571-B99BE86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3CAE-04F2-4CE4-A8D0-D8DA0F832D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87480" y="838080"/>
            <a:ext cx="89690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25Z</dcterms:modified>
  <cp:revision>45</cp:revision>
  <dc:subject/>
  <dc:title>PowerPoint Presentation</dc:title>
</cp:coreProperties>
</file>