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C48-713F-4A5B-956A-D3B15313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DC7-C57E-4D84-83FF-9BD2C57F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49F-3EB3-4C3E-8333-3B71B474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3E5-083B-48E8-87E0-351DB80B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601-5ED2-459D-B856-88C6CE26D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2DC-37F7-4F35-9891-F1AF5D2A2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7BFA-5081-46D9-B546-676831A6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5466-3C83-4D54-B724-184D16B9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AD2-4922-4555-ACE4-8F3F1502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23C-2536-47E5-A8A1-A02D25A2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3800-1E1E-4461-9758-8729C1CE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D37-A0BE-49F0-A21A-E86463BA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D683-0A00-43B2-A37F-12E44F58B8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4:31Z</dcterms:modified>
  <cp:revision>46</cp:revision>
  <dc:subject/>
  <dc:title>PowerPoint Presentation</dc:title>
</cp:coreProperties>
</file>