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0197-C3B6-447B-9C69-8D4A23A58D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20.8A | AGE DEPENDENCY RATIO IN G7 COUNTRIES, 1960, 1984 AND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9F8E-13C0-45C9-A3EF-789018E2A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DDB5-1939-4391-9636-F24D7721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8543-E93D-48DE-8097-A8E04752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22A-301D-4A3E-9868-A0A0DB40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4C16-DC17-499E-ACD1-2EEDE3D4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ECA4-20C4-4A05-9D2D-BCCA7FE5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4C8-1799-4B87-AA25-065E38FF1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A589-0444-4FE9-9227-E8993B54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BDAC-80E1-4DC6-99BE-2B1B415A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82C-A534-4767-9D01-52E746DF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59E-6309-4FBC-A578-4F99F6F8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D69-120B-4281-AE9E-DF1352F2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3DDB-8CF4-42EF-9299-3A9677A4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984B-FACD-4639-A870-5F3B6347B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8a Over the past half century, the elderly dependency ratio in the U.S. has risen, but is lower than ratios in other industrialized n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4978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5238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lderly persons (age 65 and older) per 100 persons age 15-6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674280" y="6237360"/>
            <a:ext cx="57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OECD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ECD Health Data 2010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– Version: June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8a Over the past half century, the elderly dependency ratio in the U.S. has risen, but is lower than ratios in other industrialized nations</dc:description>
  <dc:language>en-US</dc:language>
  <cp:lastModifiedBy>Jia Yao</cp:lastModifiedBy>
  <dcterms:modified xsi:type="dcterms:W3CDTF">2013-09-23T19:14:36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8a Over the past half century, the elderly dependency ratio in the U.S. has risen, but is lower than ratios in other industrialized nations</vt:lpwstr>
  </property>
</Properties>
</file>