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B08F-4CBA-4E42-9BDA-A6B8832ED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C | RATIO OF ELDERLY PER CAPITA HEALTH SPENDING TO AVERAGE ANNUAL EARNINGS OF PRODUCTION WORKERS IN SELECTED INDUSTRIALIZED COUNTRIES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95D5-205D-4B51-9982-74FE46BAC3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F91-D4C0-48F3-80D8-97ECCF17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274-B256-46AA-8567-A741EBB8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524-D5A4-43C2-B553-D748D1EDE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617C-DF2D-4A98-9AA5-45FD43E52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E39-85DF-4E95-ABF9-F4CC8FEF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2F9-373D-4154-943D-1267C38A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180-DAB8-4740-B83E-000C6072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F946-45A4-488A-9477-5E308B34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AC1-99B8-420C-BEDE-78BA56BB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E181-B079-4AFA-B783-F00751FE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F383-9A1E-4420-870D-DB667946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AF4E-3FF5-4D3E-BC51-F32C05B7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B4C4-C7B0-4FA6-8155-E8711C5CC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c | Relative to competitors, U.S. health spending per elderly person is a much higher share of average manufacturing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47840" y="1643040"/>
            <a:ext cx="839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lderly health spending as a percentage of average annual compensation in manufacturing (2007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c | Relative to competitors, U.S. health spending per elderly person is a much higher share of average manufacturing compensation</dc:description>
  <dc:language>en-US</dc:language>
  <cp:lastModifiedBy>Jia Yao</cp:lastModifiedBy>
  <dcterms:modified xsi:type="dcterms:W3CDTF">2013-09-23T19:14:3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c | Relative to competitors, U.S. health spending per elderly person is a much higher share of average manufacturing compensation</vt:lpwstr>
  </property>
</Properties>
</file>