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F865-6C41-41BD-8A0F-3DFF8599C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A | AGE DEPENDENCY RATIO IN G7 COUNTRIES, 1960, 1984 AND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A2A2-3295-4B7C-8B90-0053839AC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C4F-43D5-41F6-97E3-6C9BF7F0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B9A-0E6E-49FA-ADB9-1DE82852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804-FC35-436C-9A31-AFE3810E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986-2037-41C0-8401-4B7DFD87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EFAE-0F87-4996-8A4B-7A9AC686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37A-1342-4CF9-A8EC-544562DC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111-0915-4CF0-BD2E-09DDAC83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AFB-1703-4FC4-BA22-28C135CC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1EA-9CAD-4F0F-B538-8FF67995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942-A01E-4E98-B808-ECC16033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539-183E-42C1-B5C6-49FAA417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8A9-FC72-4A3D-BBF8-6E9463AF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4BD6-3EF1-4FA1-AF2D-056F813AA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a Over the past half century, the elderly dependency ratio in the U.S. has risen, but is lower than ratios in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derly persons (age 65 and older) per 100 persons age 15-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a Over the past half century, the elderly dependency ratio in the U.S. has risen, but is lower than ratios in other industrialized nations</dc:description>
  <dc:language>en-US</dc:language>
  <cp:lastModifiedBy>Jia Yao</cp:lastModifiedBy>
  <dcterms:modified xsi:type="dcterms:W3CDTF">2013-09-23T19:14:3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a Over the past half century, the elderly dependency ratio in the U.S. has risen, but is lower than ratios in other industrialized nations</vt:lpwstr>
  </property>
</Properties>
</file>