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517C-A539-4024-822F-EEE0E0365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C | RATIO OF ELDERLY PER CAPITA HEALTH SPENDING TO AVERAGE ANNUAL EARNINGS OF PRODUCTION WORKERS IN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6280-E84B-42BB-BEE9-53D166CFE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F70-F3C5-4960-9764-D1ABE9D3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24E3-DB19-41E1-885A-281094D5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E94-A629-4382-A6BD-23A02C51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D0FA-A6DD-4840-A022-7A416741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2FCE-7F1F-4376-A764-22432A30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BC3-729E-4D94-A8A9-8A0910AF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E78-EA5A-4F0D-8E7B-F9D0C2F7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92C-07F2-467A-A90D-458302DA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BE2-589F-428A-9F66-DB5B352E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8BBD-09D1-4831-940C-EEFCC52F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C16-4C9C-47A2-8414-19C166A5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8AEE-9F67-47AD-A443-2956AF82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9B58-ED92-48B7-89D7-4FB66453A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c | Relative to competitors, U.S. health spending per elderly person is a much higher share of average manufacturing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47840" y="1643040"/>
            <a:ext cx="83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lderly health spending as a percentage of average annual compensation in manufacturing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c | Relative to competitors, U.S. health spending per elderly person is a much higher share of average manufacturing compensation</dc:description>
  <dc:language>en-US</dc:language>
  <cp:lastModifiedBy>Jia Yao</cp:lastModifiedBy>
  <dcterms:modified xsi:type="dcterms:W3CDTF">2013-09-23T19:14:3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c | Relative to competitors, U.S. health spending per elderly person is a much higher share of average manufacturing compensation</vt:lpwstr>
  </property>
</Properties>
</file>