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33C8-5D38-4843-9BBC-54072301B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82E4-5912-4955-A9EB-11D87E81E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F2F0-F3C1-44AA-8015-3DFD75957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3976-59D3-4567-B430-C41CC2F01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AC54-7B4D-402E-8F9A-A2C1224A3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17AC-29A7-4A33-82B7-8F5AB7ACA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9973-4A58-49EA-9FE7-0742B1E75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F16C-A00A-482B-A686-1C9C8EA82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7445-00F7-4B0F-A666-A16BE863F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813A-0073-4EAD-A17F-C127AE57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238F-CD19-423E-9B42-C6EE151D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3F8C-9E03-4228-9AF4-0D38D9B2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D69EA-4346-4C31-943D-7ADE968152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87480" y="838080"/>
            <a:ext cx="89690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25Z</dcterms:modified>
  <cp:revision>45</cp:revision>
  <dc:subject/>
  <dc:title>PowerPoint Presentation</dc:title>
</cp:coreProperties>
</file>