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04F2B-AA92-4954-8E96-B03D517B0A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8A | AGE DEPENDENCY RATIO IN G7 COUNTRIES, 1960, 1984 AND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D1355-4FC9-45D4-8455-DB7996AEA4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06AA-C4F6-4438-BA4D-8ECB92147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330F-F1AC-457A-9FA0-03AC577B0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6A81-08FC-424E-BFFD-4C9A5E6CB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9A3E-FDBC-4DA7-B4EE-39D20C6C8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27A9-864A-441E-BE42-2BB248679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BCC0-EA19-4CF3-BB39-CE5401010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B141-A1FF-4AF7-AD3F-6081A6331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419D-7609-452A-9EEB-7D0B769EA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727A-234D-416F-A4FB-A83955457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2C16-F7D2-4F28-8537-C2798AD9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AD31-0A2A-49EE-BD2C-1D9E261BE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58B7-8044-4C6C-B89E-2F2B5C57B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0E3BC-D9CA-478F-9826-3B2C018EBA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8a Over the past half century, the elderly dependency ratio in the U.S. has risen, but is lower than ratios in other industrialized n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559720" cy="49784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523880"/>
            <a:ext cx="716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lderly persons (age 65 and older) per 100 persons age 15-6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674280" y="623736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8a Over the past half century, the elderly dependency ratio in the U.S. has risen, but is lower than ratios in other industrialized nations</dc:description>
  <dc:language>en-US</dc:language>
  <cp:lastModifiedBy>Jia Yao</cp:lastModifiedBy>
  <dcterms:modified xsi:type="dcterms:W3CDTF">2013-09-23T19:14:36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8a Over the past half century, the elderly dependency ratio in the U.S. has risen, but is lower than ratios in other industrialized nations</vt:lpwstr>
  </property>
</Properties>
</file>