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3B79-A11B-48A9-BE6D-D7F96E126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C | RATIO OF ELDERLY PER CAPITA HEALTH SPENDING TO AVERAGE ANNUAL EARNINGS OF PRODUCTION WORKERS IN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AE45-34CB-411D-B177-E2DF860DD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024-28B1-430D-9056-FE601EC9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402-4A20-4393-915E-434F7587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3C6-7BF3-4709-ADFE-66E064FC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CB6-55C4-449D-A9D2-D6856319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9C5-EED2-48F5-9F1F-D86B36A3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96B-EFE6-42E7-ABE7-82E9CAC0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0E2-D6B3-4100-AB2B-8A7F590D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919-40F7-485D-BFE3-A29069ED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09B-3EA6-4C66-9C45-4933D467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5E8-F57D-4117-9081-F658EF6D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9AF-B8F7-4ACF-ACB4-13405C4F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858-56E9-4FDC-B5FF-AC07C528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E19C-825A-4932-93A5-4A78461EE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c | Relative to competitors, U.S. health spending per elderly person is a much higher share of average manufacturing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47840" y="1643040"/>
            <a:ext cx="83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derly health spending as a percentage of average annual compensation in manufacturing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c | Relative to competitors, U.S. health spending per elderly person is a much higher share of average manufacturing compensation</dc:description>
  <dc:language>en-US</dc:language>
  <cp:lastModifiedBy>Jia Yao</cp:lastModifiedBy>
  <dcterms:modified xsi:type="dcterms:W3CDTF">2013-09-23T19:14:3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c | Relative to competitors, U.S. health spending per elderly person is a much higher share of average manufacturing compensation</vt:lpwstr>
  </property>
</Properties>
</file>