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D988-13FB-4EB8-96CB-E64D6829B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b | Monthly Premiums and Cost Sharing as Percentage of Average Monthly Social Security Benefit, 2010 and 20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744D-B6B0-48C9-A488-F4C62B83F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941-C486-410E-91B8-178AF2AD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F67-2885-49C6-9F3E-45FC129D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22BF-93D2-47BE-80F6-7D4323B8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B1D-0F4B-47D3-855E-FC876D99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BF8-3323-4113-BA6B-42F48DA5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CB9-C4BE-4927-8B9B-4FD838F3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A71-381D-4911-AF53-CE92E4DC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F804-60B3-4172-81AE-6023693B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8ED-C1A2-4BBD-AFCD-34C7CAE6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813-797E-4E68-BBB8-FB9E900C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3C3-9182-4F54-8DC3-0D3BA90F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899A-671B-4B0F-9080-11452C7A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7B5E-A57E-400C-BD15-DDEECD35A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7b | Typical Medicare premiums and cost-sharing will consume virtually all of the average Social Security check by 208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09480" y="16225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nthly premiums and cost sharing as percentage of average monthly Social Security benef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26400" y="6221520"/>
            <a:ext cx="423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MI=supplemental medical insu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b | Typical Medicare premiums and cost-sharing will consume virtually all of the average Social Security check by 2085</dc:description>
  <dc:language>en-US</dc:language>
  <cp:lastModifiedBy>Jia Yao</cp:lastModifiedBy>
  <dcterms:modified xsi:type="dcterms:W3CDTF">2013-09-23T19:14:34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b | Typical Medicare premiums and cost-sharing will consume virtually all of the average Social Security check by 2085</vt:lpwstr>
  </property>
</Properties>
</file>