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66A-5EB4-4231-BFBF-39593A7C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407-59A6-4755-997E-B0AF0D19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DE2-570F-46FA-BEBE-9B21FDE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B84-81B6-4BF7-BCB4-AFDB606B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C33-6F6D-453C-AE79-FC12865C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198-83C8-4FD0-AC9E-3544F595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0C0-5AC7-452B-96A2-170F75A5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92D-6391-42D8-AF64-8F351154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995-A4EC-4C46-8D70-54153C43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04F-88E3-4438-A72F-8074EE9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3F0-62D0-4F6D-B2AE-81B31187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D3D-727D-49ED-B5A5-556CCE9C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4A29-D333-4DDF-8DA6-F0AA3813A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7600"/>
            <a:ext cx="914400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1Z</dcterms:modified>
  <cp:revision>43</cp:revision>
  <dc:subject/>
  <dc:title>PowerPoint Presentation</dc:title>
</cp:coreProperties>
</file>