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C6D-AFB0-4A6A-8790-1871A35B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156-4541-4D10-B1FA-39855140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FAA-AE2B-4E91-8079-12FD738B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0A4-A76C-47F4-BB3A-6A133B7F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2F6-721F-4F48-A69B-323F492D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7E1-A0F4-484F-87E1-1AC9637A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A02-FCE5-4A8E-A888-5FDE5768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FE9-4BEF-451B-B84A-4E1467DF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16A-C899-42E2-9E5A-D98BD61C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032-95A7-478C-8AEA-39D235F2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FB2-D858-418B-87A1-A3324E3D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6D7E-AEE8-4258-82A5-A5D41660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11D5-0E65-4B24-A552-59182BC92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11240"/>
            <a:ext cx="9144000" cy="66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2Z</dcterms:modified>
  <cp:revision>45</cp:revision>
  <dc:subject/>
  <dc:title>PowerPoint Presentation</dc:title>
</cp:coreProperties>
</file>