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2B3C-C8ED-4EDB-93B5-59862602E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7A | INCREASE IN MANDATORY FEDERAL HEALTH SPENDING AS A PERCENTAGE OF GDP, 2010-20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2DAB-9D01-440E-BE54-86355C401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BAC-DAD6-48AA-851D-1DA2C950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EB3-477D-40EA-A16D-036A3C65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9467-1DB8-43F8-876E-E1EF8558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667-786E-4C49-8550-20B9E17C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F9B-C4B5-4085-982F-1BE7A37B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45C-23C9-4D59-AB91-D88E0948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863-3972-4BEC-96A0-E90C0A4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2BE-39F0-4FA6-9611-1DFEFB8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808-BC67-41BA-AA5D-D1B44E5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754-2AC3-47B9-B02C-8DAEEB6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C8D-ADE7-4D7B-9D2C-F94D7051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A37-79D1-4D8A-A393-90DDD298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23B6-2FA4-4249-8932-D1FBFB5C0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0.7a | The projected 75-year increase in mandatory federal health spending exceeds revenues from the three largest sources of federal tax reven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25480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457200" y="1447920"/>
            <a:ext cx="16002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7a | The projected 75-year increase in mandatory federal health spending exceeds revenues from the three largest sources of federal tax revenue</dc:description>
  <dc:language>en-US</dc:language>
  <cp:lastModifiedBy>Jia Yao</cp:lastModifiedBy>
  <dcterms:modified xsi:type="dcterms:W3CDTF">2013-09-23T19:14:32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7a | The projected 75-year increase in mandatory federal health spending exceeds revenues from the three largest sources of federal tax revenue</vt:lpwstr>
  </property>
</Properties>
</file>