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F4D3-2CE5-44CF-97AA-BB939FE3FC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6A | UNFUNDED LIABILITIES DUE TO MEDICARE AND SOCIAL SECUR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B5BC-4EF0-460F-B61C-B5510EC949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047F-DB53-40D1-BEC0-DD8042B67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C49B-8AAF-45FD-ACF2-54E968C0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7DFB-8440-45BD-9B45-DEC876FA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77B4-93AE-4E8A-862A-7A1026E3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F2A5-DF87-4AA8-9B00-99B322AE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8CC8-6AE6-4373-81C9-5CE162A4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E979-A600-4813-BDD5-9D1789DF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BB3C-9972-404A-8A9A-A325195E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F4AF-90B3-4B1F-AEF6-099FBA5F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C3A1-950E-4E72-82E3-A3A7C160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8E85-1FCA-481A-995C-C404F035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746D-7098-40FA-8900-C73A2CE5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0431-602B-43BC-8616-19062FC37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6a | Even assuming the health law works as intended, unfunded liabilities for entitlements will exceed $80 trillion over the long r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48340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4479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et present value of unfunded liabilities (trillions of 2009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33520" y="5295960"/>
            <a:ext cx="8076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for Medicare Part B, Medicare Part D and Medicaid, unfunded liabilities are calcul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ssuming the 2010 share of GDP represents current willingness to pay for these programs. 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rease in spending above this share is calculated as an unfunded liability for which hig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axes must be paid eventual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6b | Even assuming the health law works as intended, unfunded liabilities for entitlements will exceed $80 trillion over the long run</dc:description>
  <dc:language>en-US</dc:language>
  <cp:lastModifiedBy>Jia Yao</cp:lastModifiedBy>
  <dcterms:modified xsi:type="dcterms:W3CDTF">2013-09-23T19:14:26Z</dcterms:modified>
  <cp:revision>64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6b | Even assuming the health law works as intended, unfunded liabilities for entitlements will exceed $80 trillion over the long run</vt:lpwstr>
  </property>
</Properties>
</file>