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08AA-ECD6-447E-88AB-9E6DA044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170B-7CEF-4782-8649-B499E0AF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A2D6-0A42-4593-88DF-EF300866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4DCC-7BC4-4446-AF9B-28402355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C3B4-20AD-4686-B386-69F89234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149-AE18-4F29-A499-2B689756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A51C-96CB-4241-AA5E-32490FF9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AD14-4B7B-4FC3-9741-9AD59C11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9770-5C1C-4246-8E88-31670DCA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F60D-8464-48AC-A0FE-AD1C965E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0C93-0B8C-4408-ADA6-917F1AEB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B92-31EC-42DC-9900-A8D6AE89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3A27-910D-4D6E-B2A0-B41FB78C9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1000" y="1066680"/>
            <a:ext cx="8982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8Z</dcterms:modified>
  <cp:revision>40</cp:revision>
  <dc:subject/>
  <dc:title>PowerPoint Presentation</dc:title>
</cp:coreProperties>
</file>