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966D-A0BE-4E83-AF09-C5B996FB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93B-28FB-4632-9290-35977914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131-56EC-42A5-BD02-E4341552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D67-1EE8-42D0-920B-976102F9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E6C5-0A4A-4936-A1CD-AF00094E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2227-2B5D-435A-B366-93BF13BB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CA87-84D7-4DF6-A471-5AD79C4D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425C-0284-48EC-8529-135792BF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0DA-8E85-4255-9BE8-97216246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761-B317-43EA-9F6C-1DF1FE26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6986-5431-4DD4-BE6A-9B89E641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24EB-6C87-489D-8EF0-08572E51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76E9-6C61-4D41-88B6-8716DDA71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4240" y="990720"/>
            <a:ext cx="8975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9Z</dcterms:modified>
  <cp:revision>43</cp:revision>
  <dc:subject/>
  <dc:title>PowerPoint Presentation</dc:title>
</cp:coreProperties>
</file>