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C21F-5C98-4DE4-B14E-BDB1631E6A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5B | TOTAL MEDICARE EXPENDITURES AS A PERCENTAGE OF GDP, CBO AND MEDICARE TRUSTEES, 2010-208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394A-90C2-41E3-B363-DC96090F86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2D23-EBED-4697-88D7-54B556F2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0D28-0DDD-4971-BCBC-2D9107A8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536F-9006-4E9A-9F70-31514644E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343F-1D96-47EB-8227-B0418304A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ECE1-0517-4ABB-8E47-48323FFD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F176-78A2-49BE-98A2-BA7CDC9A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406F-43F2-4C06-A098-C1E34893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49F4-C6EB-4E1F-8F76-F11586FB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E1A8-2170-44C9-A31F-06312FB3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D53F-1DA5-4E5D-B0DE-09AAB693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6E7A-E181-49DE-978F-BB95C0E9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1D00-FF61-42FF-9221-527E319F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41F2-DD11-4898-A1F9-7DEE5E41B3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5b | Official forecasts of Medicare spending differ dramatically due to different assumptions about GDP growth and health spending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15920"/>
            <a:ext cx="83311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703440" y="134928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tal Medicare expenditures as a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5b | Official forecasts of Medicare spending differ dramatically due to different assumptions about GDP growth and health spending growth</dc:description>
  <dc:language>en-US</dc:language>
  <cp:lastModifiedBy>Jia Yao</cp:lastModifiedBy>
  <dcterms:modified xsi:type="dcterms:W3CDTF">2013-09-23T19:14:24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5b | Official forecasts of Medicare spending differ dramatically due to different assumptions about GDP growth and health spending growth</vt:lpwstr>
  </property>
</Properties>
</file>