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91D4-1778-4213-8723-F46DABA38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648B-3735-4DB0-B18B-38FF2617F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8103-4455-4E12-B6CF-4F568AD70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5738-7015-4395-A9DA-DFDAFF58E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A7F5-21C4-47F9-BA99-0A2262A9D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131A-296A-4EA0-A915-197BB2EC9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203B-3741-425C-9000-C565764ED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F6BA-32A3-4BBB-85A5-865123927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D307-817F-4D38-AA96-303538F0B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7974-33BC-4F32-AD81-C80D7E0CC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1CCD-48DF-4186-9746-69E819765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5D0D-19BF-4C1F-8BD9-5760F2754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C0FAF-F6F2-4650-A235-1FD7C177A2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101520" y="1447920"/>
            <a:ext cx="894096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3:16Z</dcterms:modified>
  <cp:revision>41</cp:revision>
  <dc:subject/>
  <dc:title>PowerPoint Presentation</dc:title>
</cp:coreProperties>
</file>