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93F-3D34-4103-90D1-63E4418B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423-5070-43F1-B8E7-08D5914A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245-0104-4EF9-946C-02F49EDC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1CC-7CDC-45BC-B766-6F943E05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ED8-475F-4DF9-BA87-C7473410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51B-EA39-4180-B546-A18CACC7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778-7FEE-417A-AA06-8325270C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68C-6C70-4370-8E11-19CA5A7E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B83-A700-4B71-85C8-90AE650D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6E5-AA40-4EAD-B45C-540E222E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80A2-FE36-4875-9020-634D2E40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04A-8C7C-4E1B-9944-428F56D9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CF6F-685A-46A9-8A11-32F5384F4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371600"/>
            <a:ext cx="903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7Z</dcterms:modified>
  <cp:revision>41</cp:revision>
  <dc:subject/>
  <dc:title>PowerPoint Presentation</dc:title>
</cp:coreProperties>
</file>