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5DB-D380-48C3-AFC1-B6D8E3EF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4B8-059A-4820-8669-A212FB76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84B-3985-40AB-A480-74F46477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60F-C19D-4964-A21B-D5270F22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4D95-527D-48C4-B752-33AA1BDD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BEF-EBAC-4E25-B8DF-9FA3B956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B24-A68E-4E94-892B-405F4FC8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E6CC-D3AA-4A7D-99AD-6595338A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CDE-409B-4082-AB3A-E9538A6C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49A2-F4B4-4AAE-A57D-95D43793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505-32E7-4965-8AAF-53506184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D664-737C-4261-8E3E-231ECC0D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FAB6-CE43-4627-A005-80E9A2ACD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371600"/>
            <a:ext cx="903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7Z</dcterms:modified>
  <cp:revision>41</cp:revision>
  <dc:subject/>
  <dc:title>PowerPoint Presentation</dc:title>
</cp:coreProperties>
</file>