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CA127-E239-4626-8997-8BBE12BC2E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5c | If 1 percent excess growth persists, almost 90 percent of GDP increases  will be devoted to health care by 208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48E14-FC0A-4ACF-9E36-B063E800AA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E909-33A4-4265-9A04-7D4F19B49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5717-6814-41CA-992A-EE22A9AD8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36D2-7E6C-4A4D-B859-66ACF6C6B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DED9-4714-49F1-9B02-64559BF9A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6F32-F69F-4809-80C2-736F1204D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6F8E-D3C3-4A27-AE2E-802A43484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BA45-2CD3-4CC0-995E-BE0E4D2F2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FEBA-F7B8-4DA5-8DE8-818B55815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5BDA-3D83-48ED-A78A-583E44B3F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6E83-9AE8-4D6D-BCB1-03E70FB4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A3EF-C3E6-41DC-8628-34F64AD1E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370B-E267-4E27-86CA-640C71344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42FDC-0942-4E48-A04E-1931AF5FE0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5c | If 1 percent excess growth persists, almost 90 percent of GDP increases  will be devoted to health care by 208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015920"/>
            <a:ext cx="8331120" cy="505476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685800" y="1295280"/>
            <a:ext cx="16002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hare of increase in inflation-adjusted GDP per capita devoted to health ca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5T19:35:40Z</dcterms:created>
  <dc:creator>Jia Yao</dc:creator>
  <dc:description/>
  <dc:language>en-US</dc:language>
  <cp:lastModifiedBy>Jia Yao</cp:lastModifiedBy>
  <dcterms:modified xsi:type="dcterms:W3CDTF">2013-09-25T19:36:19Z</dcterms:modified>
  <cp:revision>1</cp:revision>
  <dc:subject/>
  <dc:title>20.5c | If 1 percent excess growth persists, almost 90 percent of GDP increases  will be devoted to health care by 2085</dc:title>
</cp:coreProperties>
</file>