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1993-8726-4D8C-BB58-42246A42C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B | TOTAL MEDICARE EXPENDITURES AS A PERCENTAGE OF GDP, CBO AND MEDICARE TRUSTEES, 2010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D11C-9ACC-4731-8C39-ACD24F34B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FCF-DA86-4692-B4AC-398BF87F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F00-6031-42DA-89E6-EC525665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14A-FA1B-4D33-8058-6842972C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4E1-82C2-4FDF-9AF5-50275CD2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61A-DB3A-401B-8160-69DF538D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AE8-8A89-4E3E-A710-95055BB7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1B6-CD0F-40FE-B27F-337AA040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630-7572-4965-8EF1-CFB03DD2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B1D-1D0A-44C0-A353-661FEA4A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6B5-2D54-413F-A663-8827510C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778-4444-46DA-A69D-D6E2EFF6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680-B78C-4732-8406-CB3BED83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FD53-5E97-4EEC-9308-9A25E05EB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b | Official forecasts of Medicare spending differ dramatically due to different assumptions about GDP growth and health spending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703440" y="1349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Medicare expenditure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b | Official forecasts of Medicare spending differ dramatically due to different assumptions about GDP growth and health spending growth</dc:description>
  <dc:language>en-US</dc:language>
  <cp:lastModifiedBy>Jia Yao</cp:lastModifiedBy>
  <dcterms:modified xsi:type="dcterms:W3CDTF">2013-09-23T19:14:2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b | Official forecasts of Medicare spending differ dramatically due to different assumptions about GDP growth and health spending growth</vt:lpwstr>
  </property>
</Properties>
</file>