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18B2-029A-49A6-AF52-89F79C9F3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B | TOTAL MEDICARE EXPENDITURES AS A PERCENTAGE OF GDP, CBO AND MEDICARE TRUSTEES, 2010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5F68-5E9E-4BEA-8601-E0F8CE962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773-D7AC-4257-92F3-807A5AE5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302-F3BE-4491-AC60-F39FFECF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040-0659-48DD-995A-F3E920CD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737-0CAF-40FD-B905-225AB349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AE0-8BE4-4FE0-89EF-225CBF48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6DF-6CAB-4721-882F-12F2A61E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7F2-68B5-4692-AEE4-50B3F66A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5F7-ED61-44C8-82CE-30021D9E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293-246B-416E-8153-536B13C1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F69-DBCD-4222-B4DB-8CD231E3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43A-2A9A-4D99-98D8-DA1E0C6C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335-9B47-40F3-AE29-2D1BBAC8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B1AE-228B-49B0-81A9-7FBBCA0FD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b | Official forecasts of Medicare spending differ dramatically due to different assumptions about GDP growth and health spending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03440" y="1349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Medicare expenditure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b | Official forecasts of Medicare spending differ dramatically due to different assumptions about GDP growth and health spending growth</dc:description>
  <dc:language>en-US</dc:language>
  <cp:lastModifiedBy>Jia Yao</cp:lastModifiedBy>
  <dcterms:modified xsi:type="dcterms:W3CDTF">2013-09-23T19:14:2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b | Official forecasts of Medicare spending differ dramatically due to different assumptions about GDP growth and health spending growth</vt:lpwstr>
  </property>
</Properties>
</file>