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88B3-D686-4DDA-9235-5DA9C45ED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BBC1-49EC-4F0C-8CE5-7B920596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F414-7600-4409-A9E1-B9824B38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98AD-8BBA-457A-8341-4B0071926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622A-9466-4D81-B845-8B32B3B8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9F0B-2F5D-4615-AD48-C6C5815F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DAF8-CB3F-4EDD-BE87-982D5EA0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E4E5-516A-44E4-8729-D5DA03C0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1D2C-0311-434C-B843-CBA9A304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0D75-8CAB-4A85-8238-AFFA0468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2142-0989-4BCF-A6A9-0C02746B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1986-BB21-4866-923E-27340585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8AB7-4ADC-4A7E-8B27-D31FF7ABA0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01520" y="1447920"/>
            <a:ext cx="89409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6Z</dcterms:modified>
  <cp:revision>41</cp:revision>
  <dc:subject/>
  <dc:title>PowerPoint Presentation</dc:title>
</cp:coreProperties>
</file>