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DDA-6793-4093-97C1-0B60D5BD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CC4-BF83-4DC5-82B3-1D6AB03B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75F-7258-486E-9CB7-24616643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21C-118A-45E1-9849-8165D44B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DFD1-C653-463C-A67C-84AF367B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C2E-6BB8-415E-8471-BA89CBF1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81B-8DBE-47D1-9644-67D0EC9F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8A11-99B5-4307-BF8D-263F83BD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3E3-7A22-4F4E-BB4C-7C5ABC79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1E44-0F10-4D20-AFA5-D1A9A161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AFA-D26A-4CFF-9C84-93580A0D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57A-3945-4E40-AF74-47DFAB87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D4E9-F7F9-4E81-B728-5635C1060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920" y="1066680"/>
            <a:ext cx="8858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4Z</dcterms:modified>
  <cp:revision>39</cp:revision>
  <dc:subject/>
  <dc:title>PowerPoint Presentation</dc:title>
</cp:coreProperties>
</file>