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7017-92B3-4019-8703-0FE4A03AD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5a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Low, Median and High Estimates, 2000-20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8562-379A-4784-AEC7-BD91CB85D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2DE-E712-444B-9FAB-6BC20A12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790-257A-47D9-9F2A-C15891CD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728-E0C7-4157-A192-500A5E78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278-49FD-4B53-8535-963121D8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79B-F42C-4D34-BF90-CBF4EA3A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484-A9CD-4877-B312-4A2C8EBE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88D-B02B-4327-AF0B-BD653609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974-E488-4FAF-82E8-CC59E8B9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2D2-DD6C-4EBE-9DA1-6D534617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FFB-A765-494A-A0C7-B1434287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576-7472-422F-A224-CF0E719D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D437-4154-4AD6-B337-58E940F1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ED2A-34EB-438C-92A0-126D1B588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5a | There is a huge amount of uncertainty in 75-year forecasts of Medicare or other health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7840" y="5786280"/>
            <a:ext cx="85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Lee, Ronald and Timothy Miller. An Approach to Forecasting Health Expenditu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pplication to the U.S. Medicare System. Health Services Research, Volume 37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5, October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21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74920" y="4429080"/>
            <a:ext cx="79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low and high estimates encompass a 95 percent probability interval. Giv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ertainty in future population, future health status, and growth in health-status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 per-beneficiary spending, the actual level of future spending is expected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within this interval 95 percent of the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a | There is a huge amount of uncertainty in 75-year forecasts of Medicare or other health spending</dc:description>
  <dc:language>en-US</dc:language>
  <cp:lastModifiedBy>Jia Yao</cp:lastModifiedBy>
  <dcterms:modified xsi:type="dcterms:W3CDTF">2013-09-23T19:14:2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a | There is a huge amount of uncertainty in 75-year forecasts of Medicare or other health spending</vt:lpwstr>
  </property>
</Properties>
</file>