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304C-AF48-45B3-95B3-85BF6BFA0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B | TOTAL MEDICARE EXPENDITURES AS A PERCENTAGE OF GDP, CBO AND MEDICARE TRUSTEES, 2010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6B1D-B7ED-49F7-B0DD-BD4592D45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901-55FD-4BED-BC1C-A95E3E11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BBC-E0D1-4D43-82F8-942E457D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FAB-E0DD-4F5A-AFC7-9ABA62E9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6A1-8E96-4041-A304-17668975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F57-84C5-4A40-A445-D3DC1E4F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7BE-B7B8-499F-8CF2-61637587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C77-1AB7-46AE-AEA6-3E858F93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AB7-EB5F-4ED3-9F96-4BA106A1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EF5-0E5A-4282-B05F-BA300812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EDC-6D74-47A8-8C8D-5B52D779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581-2D57-4FDA-9F4C-B0259131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178-AF0C-44C4-B63E-B8B75E6E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880E-960F-47BE-BC33-D0B38D70C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b | Official forecasts of Medicare spending differ dramatically due to different assumptions about GDP growth and health spending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03440" y="1349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Medicare expenditure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b | Official forecasts of Medicare spending differ dramatically due to different assumptions about GDP growth and health spending growth</dc:description>
  <dc:language>en-US</dc:language>
  <cp:lastModifiedBy>Jia Yao</cp:lastModifiedBy>
  <dcterms:modified xsi:type="dcterms:W3CDTF">2013-09-23T19:14:2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b | Official forecasts of Medicare spending differ dramatically due to different assumptions about GDP growth and health spending growth</vt:lpwstr>
  </property>
</Properties>
</file>