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CCF1-579F-4FD3-AD05-78B1C4CDA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05EF-967B-4E5B-A001-42F9EB65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7B88-3B5F-4555-9A7D-5659CB76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EB9A-2CF2-46C8-A772-9713A8D5F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93CE-1FF7-47B3-AF47-BA275B52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816E-AD33-4300-A169-21AC1A08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17E5-3B50-4241-A9F1-14C5A652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60C3-A02C-4332-AAFE-B06D284F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8F61-C135-4004-824C-95C85312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5BDC-D1C0-4561-B4D4-12FE3690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0B8B-2B4A-4970-AD74-7F266AC6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BC43-1064-4FC5-B375-D9318116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EA43-8C77-4905-9ED2-F34EF51A49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01520" y="1447920"/>
            <a:ext cx="89409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6Z</dcterms:modified>
  <cp:revision>41</cp:revision>
  <dc:subject/>
  <dc:title>PowerPoint Presentation</dc:title>
</cp:coreProperties>
</file>