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43A3-7EF3-4CCE-90B5-F5CD2A3FA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33A7-6425-41C3-8087-A08D31FD5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4a | Inflation-Adjusted Per Capita Expenditures, by Type (chained 2005 doll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6C5-5660-4512-8F8D-E1704622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E72-D6F5-4A3F-999C-8660E24F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50A-AF0D-4793-BFE9-24D9ABD6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525-78B0-477C-9CE5-D52F35D2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42DF-DBA1-4B77-9B1F-FB469687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CB96-FB6D-4DEB-AE5A-6688B5D3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10A3-90ED-418B-8995-B5987579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2F82-4B66-4BF9-A170-C2794C48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8818-875B-4E62-A890-4791A5E1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78F7-F7EF-46C8-96B8-59A07D31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CCDE-974C-40C6-AE7F-8C3802E4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566-1878-4669-8EE1-D21A62FD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5DDE-3D49-41A5-9186-51A1F715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9A61-62AB-40D9-8361-2B12C9F8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057F-E5F6-4475-9E67-0F8B3BB2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CA40-DC31-4217-80AD-FA5013D1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08D4-E6BA-4624-9382-EB593721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70F-BD57-441E-A269-9FEACD23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D0F-C694-4BA2-B466-49755549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8CC-CC61-4605-81A9-0368DC23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678-C0EA-4B8D-A75B-D70B2D81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93F-D97A-467E-A375-B6B5EC6C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94CA-9C3E-4059-A159-D4B8AF4F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23A-7B76-4F3A-9C57-E56D80E4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94ED-9CB1-41D7-B59B-351EB51022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C638-D913-40D2-B42E-E09CC87CBB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4a | Despite rising health spending and taxes, non-health personal spending per capita more than tripled from 1929 t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4a | Despite rising health spending and taxes, non-health personal spending per capita more than tripled from 1929 to 2009</dc:description>
  <dc:language>en-US</dc:language>
  <cp:lastModifiedBy>Jia Yao</cp:lastModifiedBy>
  <dcterms:modified xsi:type="dcterms:W3CDTF">2013-09-23T19:14:18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4a | Despite rising health spending and taxes, non-health personal spending per capita more than tripled from 1929 to 2009</vt:lpwstr>
  </property>
</Properties>
</file>