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373-3DB1-4FBB-848B-100C7D88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5C0-6119-4EF2-9292-C40E10FE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D4F-637A-4334-8AEB-14909A9C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CEB-1005-40A1-B696-BF6993CA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406-FB07-4E7E-B804-2B7A90B9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ED1-323D-46F1-B634-16D6B676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A89-88B1-4609-945F-D9BB202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F13-9574-40BC-9398-1E284D9B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E52-8CD1-4622-BEC9-99AF1F0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F5E-C363-4A30-B71C-0D60E61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C57-9463-4E12-B6FD-B81D40B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4136-474D-4933-8320-39D85932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A2AC-A27C-4C97-AFC8-AABACB37E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2120"/>
            <a:ext cx="913608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3Z</dcterms:modified>
  <cp:revision>39</cp:revision>
  <dc:subject/>
  <dc:title>PowerPoint Presentation</dc:title>
</cp:coreProperties>
</file>