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BA3E-FF23-4EEA-BA1D-E5838C2AE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B | PER CAPITA SPENDING ON NONHEALTH GOODS AND SERVICES, ASSUMING "MODEST" ALTERNATIVE EXCESS COST GROWTH RATES IN REAL NHE PER CAPITA, 2009-208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81B8-7152-4AA1-A864-8655BE5C4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118-1FA5-4D94-88B5-617EA7CE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C20-C1CC-40A0-A261-2E20E92B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CEF-6A51-4C42-BAC3-177587A1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479-4D32-4FAB-8AD9-BEBF0527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569-8246-4200-A246-22E03A7A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608-3A13-463A-B988-42BB1202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744-625C-4C93-9321-597563AE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E71-CA9D-4A28-BA14-27306ED4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3DE4-5338-4F68-BD3E-7EA2B5D6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80B-031A-4271-A019-86D2938D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B2E-523D-42A8-9C60-F92ED8CD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EC63-A8EF-4C89-8BDE-650DD9E9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7389-8E09-44A8-8594-7F8A3EFF8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0.4b | Non-health GDP per person could decline within 5 decades if excess cost growth continues at historical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015920"/>
            <a:ext cx="8331120" cy="5054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9528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n-health GDP per capita (2010 dollars using adjusted CP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905120" y="3200400"/>
            <a:ext cx="4267080" cy="4572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</a:rPr>
              <a:t>First year non-health GDP per capita dec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7"/>
          <p:cNvCxnSpPr/>
          <p:nvPr/>
        </p:nvCxnSpPr>
        <p:spPr>
          <a:xfrm flipV="1">
            <a:off x="4267080" y="2742840"/>
            <a:ext cx="53424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8"/>
          <p:cNvCxnSpPr/>
          <p:nvPr/>
        </p:nvCxnSpPr>
        <p:spPr>
          <a:xfrm flipV="1">
            <a:off x="4799520" y="2590200"/>
            <a:ext cx="229320" cy="610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10"/>
          <p:cNvCxnSpPr/>
          <p:nvPr/>
        </p:nvCxnSpPr>
        <p:spPr>
          <a:xfrm flipV="1">
            <a:off x="5105520" y="2209320"/>
            <a:ext cx="1219680" cy="991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5" name="TextBox 9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b | Non-health GDP per person could decline within 5 decades if excess cost growth continues at historical levels</dc:description>
  <dc:language>en-US</dc:language>
  <cp:lastModifiedBy>Jia Yao</cp:lastModifiedBy>
  <dcterms:modified xsi:type="dcterms:W3CDTF">2013-09-23T19:14:20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b | Non-health GDP per person could decline within 5 decades if excess cost growth continues at historical levels</vt:lpwstr>
  </property>
</Properties>
</file>