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AAB-F340-403D-8A46-64B13F4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933-39E8-462E-A124-9E3AD494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15F-C97B-4331-AD6F-B2D7E449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D10-029F-4E5C-881B-E77425C1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98D-010A-43CA-AF4B-A2C4A0D0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D14-B287-4F57-9927-06748BB6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12A-4F70-4A69-98EF-09546C42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47D-C31D-456B-917F-8489E12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496-68D7-46CA-93D7-BBC40895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0D1-698C-493F-BD1C-5CBBECF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405-E00F-40B0-A4E6-CF87516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B96-3B0B-4DA0-A868-D854571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9F7A-0AE1-420C-8F85-497A5513C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12Z</dcterms:modified>
  <cp:revision>39</cp:revision>
  <dc:subject/>
  <dc:title>PowerPoint Presentation</dc:title>
</cp:coreProperties>
</file>