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3970-93EF-461B-B0F1-E6024646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842-BD31-4690-B11C-96A5C050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1AA-4C1A-48A4-9D2E-43E6B515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C87A-4076-4A49-89DD-6DCBE3CC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B8A-F3B0-40ED-BC36-C96CEA3B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FBD-48F9-4168-9906-1A70B06A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C2CA-B1F9-46C7-8332-BBB3105C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B9B-7031-4834-A743-8D58723C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34C-0783-44D1-89C7-35135907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8D1-C646-4EE1-825B-0FF5E760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07CF-09C1-4D9A-B570-DB229DC7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686-D451-4530-87C9-D6BCE6E8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65D9-A5A9-44AB-9037-66FCDC9E3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9840" y="228600"/>
            <a:ext cx="9004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0Z</dcterms:modified>
  <cp:revision>39</cp:revision>
  <dc:subject/>
  <dc:title>PowerPoint Presentation</dc:title>
</cp:coreProperties>
</file>