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AF41-303F-4196-90AC-13B1C434B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b | Projected Year of Medicare Hospital Insurance Trust Fund Insolvency, 199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26AE-2E8B-42DF-BC37-79B853078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F87-5606-4E1C-B946-6FE00AB1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A9D-D495-491A-85F8-2EB1C1C1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755-2704-4E7A-8E54-B7F3A9A8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9A1-1C92-4777-B48A-51AD8F58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ECE-6149-4804-8E43-A64044D6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397-378C-4CD2-A950-82457773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800-D7F6-44FE-99B0-43D996D1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B36-03F3-49DE-9C0E-808D1944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B32-FF64-4255-BE7E-0B8DA5BA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8D7-B0FA-47D1-A396-5A16C87B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EED-A200-4C96-9F0C-DFA5A0CD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B3E-C42E-4870-B560-7B9CEFD9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CD69-38C3-411A-A957-0AEEFC9C3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3b | Projections of Medicare Trust Fund insolvency have changed considerably over the ye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25680" y="1447920"/>
            <a:ext cx="65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ed year of Medicare Hospital Insurance Trust Fund insolv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85800" y="60199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ar of Medicare Trustees’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b | Projections of Medicare Trust Fund insolvency have changed considerably over the years </dc:description>
  <dc:language>en-US</dc:language>
  <cp:lastModifiedBy>Jia Yao</cp:lastModifiedBy>
  <dcterms:modified xsi:type="dcterms:W3CDTF">2013-09-23T19:14:1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b | Projections of Medicare Trust Fund insolvency have changed considerably over the years </vt:lpwstr>
  </property>
</Properties>
</file>