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B37D-53AF-4C04-9DE7-70D250E35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FDA9-54A2-411F-A825-B45276998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2 | Components of Health Expenditure Growth, 1966-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6D4-9D66-430F-858E-98922E59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C8F-BDB2-44D1-9651-527DAFA8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80C-2CA8-41F9-A713-8A0CBB5D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0AC-01DE-46E4-A3E3-12861B59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41CC-D1A2-4C70-8CB8-E933D471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226B-E0D3-40E0-945D-CF444201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897A-3498-4D8E-8B36-508B769F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F3E5-3F45-4436-8127-0E1C3CC6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B616-866A-4358-AE1E-B1477CCD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1E0C-74AB-4913-8725-2B96B899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204C-B758-4969-A5BD-40CFE318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57D-8CEF-417B-9EF4-EAD4D2AD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D6E4-0D94-49C6-B39D-C61B7B13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91DA-93BC-4250-923F-33A89641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7DF9-A119-4FCC-BE3F-6BE734F8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36FF-0ECF-46B2-9E44-56510F6A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B7D3-A115-4FC1-A942-9FDFDA76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950-B770-43F4-96D6-8EADC10D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5F6-1E50-4337-A881-E7104096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11B-E393-455A-A8CB-7151FD71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C0A-D53B-453A-B039-CEDFCA76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4CB-F836-46B4-B7B6-EDF3FC36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C08-7E70-4DAF-BD99-CE6F2BDA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632-1390-4FAD-AE72-F3CB5164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2A51-8B41-4B27-8297-EECAB32C44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7B4A-C821-46A6-9C7C-FD73ACD4A5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2 | The role of technology on health spending growth per person is sizable regardless of the time-frame and assumption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2 | The role of technology on health spending growth per person is sizable regardless of the time-frame and assumptions used</dc:description>
  <dc:language>en-US</dc:language>
  <cp:lastModifiedBy>Jia Yao</cp:lastModifiedBy>
  <dcterms:modified xsi:type="dcterms:W3CDTF">2013-09-23T19:14:1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2 | The role of technology on health spending growth per person is sizable regardless of the time-frame and assumptions used</vt:lpwstr>
  </property>
</Properties>
</file>