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F16F-E7A5-426F-8A3D-E1BDDEE9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5AA5-BFF0-4A38-B8C0-DEB87CD7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6162-C9D2-407C-9E0B-94D16D1E9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A424-A8D2-4726-B4CD-FE92E2476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5CF9-A791-4BA4-8892-FD7E6B1E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5526-8E18-445C-8FBA-ED43F8CE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BE6C-89CF-4632-9EC9-64490F1F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C2CC-6AF9-4868-902D-90308FF0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3371-046E-440B-88BA-DC759807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A2D7-3110-45E4-9798-8A74E007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CFA4-E2AC-4658-9106-D8750A12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9096-396E-45A1-8DE6-E040B2B9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7607-88F8-4888-B7F1-DB0748DA3B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65480" y="0"/>
            <a:ext cx="461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08Z</dcterms:modified>
  <cp:revision>38</cp:revision>
  <dc:subject/>
  <dc:title>PowerPoint Presentation</dc:title>
</cp:coreProperties>
</file>