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ADB6-C13A-4721-AE04-3E9FC4B25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89B2-1A84-4640-8707-18024111E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1E73-2514-40C2-886E-4F0E7D222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1C68-5167-4E72-AD9F-5538117C2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A59C-22DC-455D-A229-A3EBED31C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AFC6-F375-4EFB-AB47-B2D14D0D4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0C93-E86F-4562-A9D8-600B7E676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4405-5669-42AF-AFA8-46EC462B5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8A2A-6DDE-4576-B751-C0BB03EFC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8615-F7C6-46C4-803B-EBE65B57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FC11-379D-43BE-A155-A654ADAE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9DB6-A49E-4450-984D-68FA836E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C67F7-64E3-4042-829C-E306FF7638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264960"/>
            <a:ext cx="8934480" cy="62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07Z</dcterms:modified>
  <cp:revision>39</cp:revision>
  <dc:subject/>
  <dc:title>PowerPoint Presentation</dc:title>
</cp:coreProperties>
</file>