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81EF-4505-4B9F-9F40-F397B1E90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74CF-3B18-4BBC-A69D-2CD28EC5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2661-E6B0-43C9-B111-33B31723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1A69-F625-47B3-A1EC-8C8EF950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62EC-5838-4E2F-BCE3-DAF86B0C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1611-D7F4-46C9-92BA-32CFE3D0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8A4-1931-48EF-9970-62614CC4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4D30-15AA-48BF-875B-140449C3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E030-B99F-44B4-A567-D03B4A4F8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556F-451B-4CEB-9DE1-1BA7E0E8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AA9B-860D-4878-ACC6-8A8536B6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B52-5B27-4056-AFB7-A6FC5A0B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839E-4B99-47C2-B2E5-7344CE7DAC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264960"/>
            <a:ext cx="8934480" cy="628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23:07Z</dcterms:modified>
  <cp:revision>39</cp:revision>
  <dc:subject/>
  <dc:title>PowerPoint Presentation</dc:title>
</cp:coreProperties>
</file>