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8953-F2AD-4162-9A87-B8B7DEA3A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21EA-F211-48F2-BADF-DD1D575AEA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20.1 | EMPLOYER CONTRIBUTIONS FOR HEALTH INSURANCE AND OTHER FRINGE BENEFITS PER DOLLAR OF WAGES AND SALARIES, 1948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01B-A97F-43AA-B498-6BDBB5E1F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406-3ABB-4E7E-A47C-5AB8945F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1F70-58BA-4687-9D13-96ABFC948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543D-5A8C-4E46-B236-B22863B8E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1D21-13F2-476F-BB64-CB7E751A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BB2C0-F396-4581-8249-6BB9E3F5F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64AB-D0F0-482C-B290-412FC44DD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0217E-0BAE-49FF-B811-447F384D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8962-D3CC-4EBF-9F53-B9AC4205A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D856-E08A-460F-ACDA-BF78518C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8F66-9FA4-43CF-B450-60D90D09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1745-D0F9-446D-B207-B928C675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B615-D525-4A3B-9B10-3FAA029EF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DC807-5416-42BC-ACAD-9C95AE42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701E-F610-4429-A071-86A3D310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B9E6-94D3-45CB-981B-8F41A2FD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8F5E-916E-48EE-BF54-2114F38F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0DD8-E13D-4923-97EC-C95149722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62BD-29C4-47AC-8E2D-6D50AF4C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CA60-A719-456E-B068-708A81B0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3CF0-BF20-4415-9057-D55DDEFE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6ED4-A455-44DD-86CD-064954F4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1B9D-309F-4EFF-9D47-B2784928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CAA0-4B46-4C09-BC7A-8D983A35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ADE57-5DFC-420A-A0F5-E4EE92F9CF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720B-51D4-4611-A1A0-A0E0A8222D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20.1 | At historical growth rates, the amount of health-related benefits per dollar of wages and salaries will quadruple over the next 75 y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3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5:46:42Z</dcterms:created>
  <dc:creator>Kristy</dc:creator>
  <dc:description>20.1 | At historical growth rates, the amount of health-related benefits per dollar of wages and salaries will quadruple over the next 75 years</dc:description>
  <dc:language>en-US</dc:language>
  <cp:lastModifiedBy>Jia Yao</cp:lastModifiedBy>
  <dcterms:modified xsi:type="dcterms:W3CDTF">2013-09-23T19:14:09Z</dcterms:modified>
  <cp:revision>64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20.1 | At historical growth rates, the amount of health-related benefits per dollar of wages and salaries will quadruple over the next 75 years</vt:lpwstr>
  </property>
</Properties>
</file>