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48C-503F-4679-9147-E8A6B7EE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A4C-EBE9-43C1-92DE-F627618D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0D1-2A33-484E-B5F8-FBCCABFF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482-07E6-4F31-B5E9-914945C1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13E-7903-4CBF-AD5D-1C31021B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4BA-67A8-4A1B-88A1-0E154F14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738-F25D-44B4-82AE-2A36E0F1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3C7-B0B5-43D3-8166-B047BF13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ED6-92D0-4DE1-B7B4-8447F32F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E17-A0B0-4132-B676-30B6337B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DE3-AD5F-4B31-906E-4110BDF1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640-6C2E-4D97-BEE9-B81E4659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CBD5-814C-435C-9209-F1CBC42CA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64960"/>
            <a:ext cx="89344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7Z</dcterms:modified>
  <cp:revision>39</cp:revision>
  <dc:subject/>
  <dc:title>PowerPoint Presentation</dc:title>
</cp:coreProperties>
</file>