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68E4E-C132-4D90-8CC2-6CE6BECDE7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7.4 | CHANGES IN PRODUCTION OF HEALTH CARE, GOODS, SERVICES, AND GDP, 1929-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5422A-1D03-449E-8F21-D1D40340BC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E130A-6AA6-41B9-A519-D5B7B2BC5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403C6-3749-4E09-B3EF-2872726D4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D9473-877D-4C33-827F-D74FB3BB6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C920B-5E8F-407B-AB06-C487A2079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5D4B1-81B4-495E-B6FE-D1F04EC13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F5E8B-5B7D-47EE-AC4B-5B133A7FC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DC4E0-25D9-4E4C-9B94-B8C233F36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35A31-2588-4F63-9F1B-4CEF7E850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51DFF-6EB8-4EE2-AD1B-8F60EB9B6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72FAA-AF3C-408F-838F-06B3B2B31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9351E-BACC-42CA-949D-79D22F82A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B890A-DBF9-42C1-9696-2937AB5F4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34A00-AB40-49E2-AA3A-5169EF14E8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7.4 | Output in the health sector has increased much more rapidly than in goods-producing industries, service sector or GD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244520"/>
            <a:ext cx="8636040" cy="5283360"/>
          </a:xfrm>
          <a:prstGeom prst="rect">
            <a:avLst/>
          </a:prstGeom>
          <a:ln w="0">
            <a:noFill/>
          </a:ln>
        </p:spPr>
      </p:pic>
      <p:sp>
        <p:nvSpPr>
          <p:cNvPr id="50" name="TextBox 1"/>
          <p:cNvSpPr/>
          <p:nvPr/>
        </p:nvSpPr>
        <p:spPr>
          <a:xfrm>
            <a:off x="609480" y="1447920"/>
            <a:ext cx="68817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hained quantity index (1929=10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7T13:24:03Z</dcterms:created>
  <dc:creator>Kristy</dc:creator>
  <dc:description>7.4 | Output in the health sector has increased much more rapidly than in goods-producing industries, service sector or GDP</dc:description>
  <dc:language>en-US</dc:language>
  <cp:lastModifiedBy>Jia Yao</cp:lastModifiedBy>
  <dcterms:modified xsi:type="dcterms:W3CDTF">2013-09-06T14:09:56Z</dcterms:modified>
  <cp:revision>304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7.4 | Output in the health sector has increased much more rapidly than in goods-producing industries, service sector or GDP</vt:lpwstr>
  </property>
</Properties>
</file>