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7B44-1BC9-48B7-B681-ED695DE61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3A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4F4C-20B8-4512-AA62-CE3F8E7AE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2190-E663-44CA-A170-F8E86452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8593-226E-4382-9680-0989B684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000-574B-41E6-8313-E72C299D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D8F-BDC7-4BCE-8CD4-EAD8C7BE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F2CD-E120-473F-9178-8F55E0CB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48B-C00B-4107-980F-4C49F042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B92F-D14E-48DE-A445-FBECB8B0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674E-AF9C-4BD9-B6CE-AF3A7F7C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01D-60E6-4775-A4A7-1C571E8F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DDB5-DB29-4819-9C21-1833B9FA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050-5543-4BDB-A10B-17E4E579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C9C-A100-435F-8469-A03802D9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5B8B-AEE2-4F67-8A4A-F8EEF9A39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7.3a | Rapid growth in the health care sector has been a major factor in the rising share of total national output purchased for services since 194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295280"/>
            <a:ext cx="594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3a | Rapid growth in the health care sector has been a major factor in the rising share of total national output purchased for services since 1948</dc:description>
  <dc:language>en-US</dc:language>
  <cp:lastModifiedBy>Jia Yao</cp:lastModifiedBy>
  <dcterms:modified xsi:type="dcterms:W3CDTF">2013-09-06T14:09:52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3a | Rapid growth in the health care sector has been a major factor in the rising share of total national output purchased for services since 1948</vt:lpwstr>
  </property>
</Properties>
</file>