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4F58-3A2F-4CEB-A159-849EA186E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2CC8-0F17-406F-9C90-B74F73A40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D93A-FF7D-49DE-888C-61E800DFA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CB7D-1FA1-4CEB-B9D3-F6476586D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6A79-F126-46DE-BC7E-2435F91BE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9D4F-B8BC-464E-B71B-F17BD334C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A7F4-1563-4E36-BFA8-8685C0792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2991-D8D7-40CC-8DE1-88B704B85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EBBC-85B1-45BE-ACE4-EC92775B2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1C7C-578F-4415-8A96-49A6DFFE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B37F-F7FF-484B-ABB7-4BC69CAA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2981-FD44-4094-9E26-016DB230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52BFB-1D0E-4621-8773-DAD885DCF8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04840"/>
            <a:ext cx="9144000" cy="64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6:42Z</dcterms:modified>
  <cp:revision>20</cp:revision>
  <dc:subject/>
  <dc:title>PowerPoint Presentation</dc:title>
</cp:coreProperties>
</file>