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FD95-1D13-4A02-891F-7C963C128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3A | TOTAL GOVERNMENT EXPENDITURES ON HEALTH CARE AS A PERCENT OF GDP: 1929-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0625-D3E9-4103-9930-73F34B4B13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140F-1AAA-47BC-90FC-F8D7C85A4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F411-C93F-42BB-84E6-165FC8025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E762-0EEC-438A-86A8-0DFAA22B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CCA7-45E0-48E9-8500-5CBEEE78B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28F-C389-49C0-A304-51840AB8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B84-CDC5-401C-BA3B-E3CA4770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769-C63B-4185-ABAE-A01317ED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CBF-54A6-4333-BF19-68BC9AEC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50FD-9812-4F68-84C6-A9411DAB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1E4-DE24-40CE-9A2B-D4251964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81D1-3CBA-4E70-B40D-BB9EC2A0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8806-2682-42A9-8952-3514EBE9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F244D-FD9A-408A-9750-020D649F4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7.3a | Rapid growth in the health care sector has been a major factor in the rising share of total national output purchased for services since 1948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54160" y="1473120"/>
            <a:ext cx="89406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295280"/>
            <a:ext cx="5943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GD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3a | Rapid growth in the health care sector has been a major factor in the rising share of total national output purchased for services since 1948</dc:description>
  <dc:language>en-US</dc:language>
  <cp:lastModifiedBy>Jia Yao</cp:lastModifiedBy>
  <dcterms:modified xsi:type="dcterms:W3CDTF">2013-09-06T14:09:52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3a | Rapid growth in the health care sector has been a major factor in the rising share of total national output purchased for services since 1948</vt:lpwstr>
  </property>
</Properties>
</file>