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34AC-2096-40A7-9926-5E17D909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8566-FD13-497E-8062-A20C4E6B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5340-FE25-4507-903B-07D5EFA52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A501-6445-48F7-82A9-38F5C12A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3189-B87B-418E-AC20-70B63DC38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851-7393-4811-AFF7-D6A6BB3F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8C0-ADC8-4B36-82FB-AE54A8F0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C973-ABE8-4900-B31A-7D36D76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12C-BE8F-4442-8256-F6275661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3C7-7EA7-4FD7-B58B-6CA3F52F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FBFC-F527-4817-84CE-DAA11BAE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DDA7-568B-42CA-B9F8-083A5390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CAD6B-64A6-4D08-9F56-681580830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46160"/>
            <a:ext cx="9067680" cy="65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8Z</dcterms:modified>
  <cp:revision>20</cp:revision>
  <dc:subject/>
  <dc:title>PowerPoint Presentation</dc:title>
</cp:coreProperties>
</file>