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0889-D965-41CB-B1E3-2889D18B51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3B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56DE8-52D9-48DF-A675-7D8F149C5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3EBD-485F-452F-8A1E-3BEE5AE3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B41F-9F76-4548-A7DF-90A1E9C17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9349-FA3D-49AD-8705-9F0BAD03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6275-7B20-4745-B2A3-15D01B15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9FB7-1C89-427C-B620-EF273F425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2B23-42C2-4E94-9E37-7BA0F4D7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DB3C-2463-4A17-9BB2-AC0303A4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E6C-41FA-442A-838D-680BC5E8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B4ED-934B-44D1-BB82-08F26F19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F09-11BC-4D67-999A-CE876492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9A7D-840C-47E6-A313-9CEB561E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B650-6FD7-40EE-AEE3-E3BAE66D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52E2E-6474-458B-B30C-D8749CC194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3b | As a producing industry, the value added by health services has grown more rapidly than for goods or non-health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295280"/>
            <a:ext cx="594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Value added as percentage of private industry output (based on current dolla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3b | As a producing industry, the value added by health services has grown more rapidly than for goods or non-health services</dc:description>
  <dc:language>en-US</dc:language>
  <cp:lastModifiedBy>Jia Yao</cp:lastModifiedBy>
  <dcterms:modified xsi:type="dcterms:W3CDTF">2013-09-06T14:09:54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3b | As a producing industry, the value added by health services has grown more rapidly than for goods or non-health services</vt:lpwstr>
  </property>
</Properties>
</file>