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14D8-FB49-4495-85B0-0E2B6FE6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DD24-E321-4FE9-BF90-2443DB52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C121-3EBC-4948-821D-2FE7616F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834-489D-4B0E-B517-67D6B5578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7A6F-78E1-4BB2-8C3C-EC708C753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347B-1545-42D0-A04D-CAB4290B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A20F-B140-45F2-A198-D1E4D896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7242-D23E-4068-9E29-F1582433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CFE-F790-4C3B-AFF6-4772E3D2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68CB-6FCE-4511-B7C6-28C5E1F0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22E9-438C-4365-B5FF-42F90D9E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639F-2BE6-4529-AFD9-D7E43E7A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FEA9-E6EB-4C9F-A767-7D03F9EA38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04840"/>
            <a:ext cx="914400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42Z</dcterms:modified>
  <cp:revision>20</cp:revision>
  <dc:subject/>
  <dc:title>PowerPoint Presentation</dc:title>
</cp:coreProperties>
</file>