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8BB-2B60-490E-B011-A6BD74A7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4237-5A85-4D3F-877D-FBB1248C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82C5-7439-4E15-BA6A-2D29A268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1784-99D8-4AC8-9A75-87DE9A5F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0250-B343-4AAD-8D65-91E0DC0EA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E4E2-D20A-4803-B893-6B84C638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77C9-74BB-48E4-8C69-6A4034F62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D05-05D3-4348-8557-320D2680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9B12-4929-420C-BD4F-D04C74A5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347-BB85-4940-AB36-D897EA81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02A6-70E4-4831-AA51-89D9AC0A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E43-AF79-41A3-B945-52D8FC3D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1AB47-F89B-48E6-B1C6-562B177AA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090440" y="0"/>
            <a:ext cx="6963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6:27Z</dcterms:modified>
  <cp:revision>20</cp:revision>
  <dc:subject/>
  <dc:title>PowerPoint Presentation</dc:title>
</cp:coreProperties>
</file>