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1D9D-83FF-4C17-B68E-43F8490369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7.2 | SHARE OF TOTAL HEALTH SERVICES INDUSTRIES REVENUES GENERATED BY TAX-EXEMPT FIRMS, BY INDUSTRY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6AE9-49F2-4794-A9D9-F37B47171D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4CC7-A9B9-462B-A0A5-2E580FC1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24FF-9989-4ABB-BCE7-996E8885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8A33-4970-406C-974C-664CBBF1E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D31-DFAA-4A9F-8FEC-781504828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63D-D96C-460C-B5C9-A7DBDA43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3CE-F61B-4DAA-BA23-E18F1AD0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8CD7-79F8-4A82-8C04-F796CCCC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7A2D-45F0-4A69-9B10-E0F9D393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6AEC-51D9-46D7-81B9-87892E47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1BF1-E3CA-4D54-A386-348E71CE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C907-842A-4F55-9E1E-7CB527F3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6948-0930-4EBF-92AE-E5C0458C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310E1-FB5F-441E-8F01-99BD97E3A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381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7.2 | Most tax-exempt firms are voluntary non-profit agencies; government accounts for only about 10 percent in most  sub-secto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-50760" y="1244520"/>
            <a:ext cx="9245520" cy="528336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609480" y="601812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: Medicare and Medicaid are categorized as government health plans. Percentages for health plan enrollment sum to more than 100% due to duplicate coverag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7T13:24:03Z</dcterms:created>
  <dc:creator>Kristy</dc:creator>
  <dc:description>7.2 | Most tax-exempt firms are voluntary non-profit agencies; government accounts for only about 10 percent in most  sub-sectors</dc:description>
  <dc:language>en-US</dc:language>
  <cp:lastModifiedBy>Jia Yao</cp:lastModifiedBy>
  <dcterms:modified xsi:type="dcterms:W3CDTF">2013-09-06T14:09:50Z</dcterms:modified>
  <cp:revision>30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7.2 | Most tax-exempt firms are voluntary non-profit agencies; government accounts for only about 10 percent in most  sub-sectors</vt:lpwstr>
  </property>
</Properties>
</file>