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FD8B-4ADD-4718-B087-4261F9847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1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6D42-1CF8-4A2A-A4DA-E44D90CE0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DF2-717B-4B73-94EE-A07D0D5C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EDC-1E22-4A54-9767-B2800DF8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384-4029-42F4-A657-8037973F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C92-05BD-4AE4-A280-A2D54D22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3FE-21F6-462F-8586-5EBD497C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FF2-7E30-4658-9132-2ABDBFFA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C578-5B1F-4251-9FF4-92E24449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D4A-4834-4521-AFC6-D769E6F8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8C5-5332-4AEC-AA36-005C854D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CC0-F55C-4E19-84B9-D8CC07A0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E43-5294-420C-B964-6071666E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2DA-4920-4558-849D-C3826F34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D5E0-04B8-42CA-A040-DD9EBCA26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1 | Public and non-profit owners dominate the hospital sector and provide a large fraction of nursing home and home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1 | Public and non-profit owners dominate the hospital sector and provide a large fraction of nursing home and home health care</dc:description>
  <dc:language>en-US</dc:language>
  <cp:lastModifiedBy>Jia Yao</cp:lastModifiedBy>
  <dcterms:modified xsi:type="dcterms:W3CDTF">2013-09-06T14:09:47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1 | Public and non-profit owners dominate the hospital sector and provide a large fraction of nursing home and home health care</vt:lpwstr>
  </property>
</Properties>
</file>