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D79-311A-47A1-894D-BDC117A3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970-A946-4590-B90D-1CE52340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FDB-FC6D-4D58-8959-A0D72D16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EAB-7012-456F-AAAC-94117C57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71E-4F0E-41DF-9131-904EFEAC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3BA-77E0-4E1B-A344-D4A0B319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530-1AA2-4C5F-AC1E-7252D48C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CD6-61ED-41C1-A81A-FB8C0E4E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14C-76C4-4FA9-93CB-9ECF81E0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409-B761-4EEC-92CA-C5D8987C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748-3DE1-4B18-8BA7-A578F225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945-C512-444A-841E-E2C9C3C4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845E-6AE9-4FB2-9B51-BAAD0DE60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54200" y="0"/>
            <a:ext cx="76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6Z</dcterms:modified>
  <cp:revision>20</cp:revision>
  <dc:subject/>
  <dc:title>PowerPoint Presentation</dc:title>
</cp:coreProperties>
</file>