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BA45-15D5-4A4E-91FD-19C45C77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9CA7-D570-4FD0-8746-92EFED3C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7A5A-A7C4-4379-922E-7FDF3774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8A58-A5E8-41D4-99B3-5C03F286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7228-3573-4634-B420-9CA8FF17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1F68-38ED-42E8-92B3-23AE2750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546B-EA86-4129-89E8-88043C2D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1B84-95F7-4225-87C9-1B0FC8E6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0B16-F403-4414-BC46-A505F2BF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C2EB-4945-4C58-91B6-759134B5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12E-D116-486D-8F6C-BA098DA0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D61A-D0E8-4766-9A4A-505CF116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4BD8-AE96-4408-9AA0-345B47E13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54200" y="0"/>
            <a:ext cx="76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26Z</dcterms:modified>
  <cp:revision>20</cp:revision>
  <dc:subject/>
  <dc:title>PowerPoint Presentation</dc:title>
</cp:coreProperties>
</file>