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FAD0-EA85-4F50-A3FC-CD1FD0F4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4262-0E6F-418D-81DE-B1DC8EB4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62C8-47A8-442B-9FE9-2B6000460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DE92-3356-4BEA-91F8-CC2072BED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7B38-FE30-4B0E-9B3D-2E0E64F8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C77C-9D10-4581-BA43-253D5172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DC0B-AF28-4DF0-B14D-33973B5A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FB01-6E99-415B-9D90-A394E14E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75AC-6763-43C5-A9E8-9C512D33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7A9C-CC84-4D5D-83B6-2A83DC55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25B5-A2CF-4B1A-B893-FDA4821B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CDA4-9D1B-4284-B8FD-3E4AA0B8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1643-CA09-44AE-BB33-8385687C78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21Z</dcterms:modified>
  <cp:revision>20</cp:revision>
  <dc:subject/>
  <dc:title>PowerPoint Presentation</dc:title>
</cp:coreProperties>
</file>