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AAEC-0450-46AF-8772-1C76D642A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74B4-D8F0-403B-8549-C381F648B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9B | RATIO OF HEALTH SPENDING PER CAPITA FOR ELDERLY RELATIVE TO NON-ELDERLY IN SELECTED INDUSTRIALIZED COUNTRIES, 1960, 1984, AND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39FF-D191-4FFB-A647-F2504B0A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8D09-385D-4A9E-8CBA-759A1A0C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7EDB-9481-40D6-9D5A-08B699BE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CEDC-EA58-4929-96D2-AE9D38BB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5E50-AD82-4FB0-BDD3-C5DD688E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9209-0188-4FBE-9652-52721D12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9069-DD9A-41C4-BF55-F90A6E2F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B64A-9BF6-438A-9A4C-9BD926B7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8C6B-210E-4BF3-9919-F26BFB35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297F-3165-4D9E-9975-5938A163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2E16-AADB-4E5C-9CFF-C28EA777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8EDA-5416-4D55-A98B-7D952EB5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9D59-4F79-4280-9830-183660EA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7D1A-A57B-4DA1-A08F-D55A5604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F735-8BC6-45C9-8E43-933A2CFD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2112-4F5C-46FB-9A8F-88EB4410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EE45-9EE3-48A6-A9F2-ABA07B5D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AF38-BF54-43A5-BF42-6BDEB07F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DFA4-4785-4E25-852B-B0A99E0F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52CE-F64F-4AED-B11B-15275A74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AEF9-D1CD-4AC1-B928-EEED8DE3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2852-4D81-49B9-B48D-5067FFAA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ACB7-4303-49FD-871C-37C9E8D8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BC2F-305E-4521-803C-FD9AE3A0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B297-56E2-48D4-8BC0-E3C280CB27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1134-B68D-48CA-A7A5-09ECB1557B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9b | The ratio of annual health spending for elderly relative to non-elderly is similar in U.S. and other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57200" y="602784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9b | The ratio of annual health spending for elderly relative to non-elderly is similar in U.S. and other countries</dc:description>
  <dc:language>en-US</dc:language>
  <cp:lastModifiedBy>Jia Yao</cp:lastModifiedBy>
  <dcterms:modified xsi:type="dcterms:W3CDTF">2013-09-06T14:06:41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9b | The ratio of annual health spending for elderly relative to non-elderly is similar in U.S. and other countries</vt:lpwstr>
  </property>
</Properties>
</file>