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130-406B-4A77-AD26-C5571AC3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655-0DA4-45C4-A3F0-26786038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03A-D4BE-4EA7-9F97-71D627A1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32B-D8ED-421B-BD5A-41F0D130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1BC-D485-4503-B34F-4BA8586D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614-510E-4F1F-A78F-DF78A18F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FFA-044B-4D7E-8C08-81FB95F1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54E-1C2B-4EE3-81EF-5533C779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EEE-2A18-4AF5-973D-19CA3E6B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E6A-D7CA-4FB6-9A4F-554A2322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8A2-880B-4A98-A9C3-435E8C62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589-057E-482D-9C28-E0AF02DA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FEB0-5759-4918-AAF8-896BF4E91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17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0Z</dcterms:modified>
  <cp:revision>20</cp:revision>
  <dc:subject/>
  <dc:title>PowerPoint Presentation</dc:title>
</cp:coreProperties>
</file>