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18A-8BB3-469F-8052-320DA5A6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47E-AA93-49F6-8264-C41455E9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3D0-DB91-4C20-A644-8F5F1E10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5D0-5BB2-4DE9-BBA3-B68119A1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892C-11CF-40FB-BFC6-6B2EE1E3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3799-3FD7-455B-97EC-2FF6E410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730F-AAF7-4DC5-95EA-A2AC0159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2C3-F373-45D8-81B3-7176F548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2FB0-F804-46CE-A9B8-7A9301EF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AAE6-50B1-48B3-BDB6-2B770B38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7E2C-39F1-46A2-8B45-DA2197E5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55A3-FAF2-4525-9AA4-9F6D985B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1658-54AA-4846-841D-D04641401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-20520"/>
            <a:ext cx="9117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20Z</dcterms:modified>
  <cp:revision>20</cp:revision>
  <dc:subject/>
  <dc:title>PowerPoint Presentation</dc:title>
</cp:coreProperties>
</file>