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56CF-C55D-4620-A61F-678507B5C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5C1E-5EFA-4CD4-B69E-8B17BF3FB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9F18-2BE0-4477-B69F-F9273DB4A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258E-AE6A-48BD-B46F-E7A9F52A8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20B2-76D1-4132-BC64-8CE97B106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616C-9088-4DF1-9FD1-A36A896AC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3AA6-056A-4F8B-A6DF-0FC57232F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881F-4AD0-4D61-A2CC-65B87D60A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10E9-B899-4285-9F87-3D2FBD3C5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160B-725E-4EE8-9B97-47C09DA8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F46B-930F-4FE3-9DB4-DF4FCA28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C344-2062-4457-BA4A-D0A50816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AFDB5-36D1-4BB5-BD2B-550D82FBB7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21Z</dcterms:modified>
  <cp:revision>20</cp:revision>
  <dc:subject/>
  <dc:title>PowerPoint Presentation</dc:title>
</cp:coreProperties>
</file>