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849-4B3B-4E9E-91FE-F993F08D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8D9-65E9-4B68-8C64-56F3421F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692-A8F0-4E15-B8D5-5E363FE4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D09-08B5-4279-946E-BB98BEF7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0E8-80D4-489E-A5B7-B01D74FE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051-AA33-4C5C-925F-D75310E8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4AE-CBE7-4E23-9EEE-3D2B52F7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E46-4C49-4100-9109-90FFDD54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AC6-0B1C-4A86-9332-01E4419F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0F3-DECA-4601-B8EA-B28DFB4A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B23-B381-41EB-B9CD-D85ED4D4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9AE-C127-498E-B4D8-8995DE3F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34B4-E297-476D-AA3E-3B0664384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20520"/>
            <a:ext cx="9117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0Z</dcterms:modified>
  <cp:revision>20</cp:revision>
  <dc:subject/>
  <dc:title>PowerPoint Presentation</dc:title>
</cp:coreProperties>
</file>