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4E85-F7AD-461D-A16C-AE466915D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A | REAL PER CAPITA NON-HEALTH SPENDING, BY HOUSEHOLDER AG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E87B-C8E5-4BA4-95BA-745A3BAFA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9F5-ACE7-43C7-9BA3-707A9FBE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8FE-6FE0-4509-AEC7-78BA6EC6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0D6-EE3A-4DF0-83FF-762E7B15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B37C-03A1-4B83-90AD-1732EF46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903D-656F-49FD-9A8A-14221D78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179C-B634-4AFC-80B0-3F4DDBB7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53EB-604B-478C-9CA2-1E5BC63A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0769-180F-4D5D-9B65-D5FC54F6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ECF9-035B-48BE-99AC-5DEAC288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28CA-B0F1-4869-BCCD-BBEE7698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0B2A-3228-45F4-A447-632D7F17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80C-C22B-4A5B-9834-2145E75F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0504-32D2-4D0C-8911-94066723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E187-0864-488F-9033-AFECA295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4F53-D366-4826-87CF-7E2A9137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BE86-4D3B-4138-91A0-6718CFF9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A354-3832-4388-A8A2-6D907A1D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AB9-AD89-46A5-B833-07DC2CAE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D5E-F153-43BB-93FE-7065B4AD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F57-9D55-4ACD-A81E-7394EC8E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182-CEA0-446D-A3C4-35D2CB23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F65-60A9-45C5-BE67-20292BB5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6EA-7030-46A7-9267-79CF394E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15D-A919-46EE-B9DF-8E692FE3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F6CF-A1E0-48FC-90C5-345289CDB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99AB-3452-4A89-AEEC-F59D33C41A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a | Real per capita non-health spending currently is higher in households headed by elderly people; this was not true in 19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388800" y="1092240"/>
            <a:ext cx="834876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Chart 4" descr=""/>
          <p:cNvPicPr/>
          <p:nvPr/>
        </p:nvPicPr>
        <p:blipFill>
          <a:blip r:embed="rId2"/>
          <a:stretch/>
        </p:blipFill>
        <p:spPr>
          <a:xfrm>
            <a:off x="388800" y="2921040"/>
            <a:ext cx="8348760" cy="1473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76212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57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hart 9" descr=""/>
          <p:cNvPicPr/>
          <p:nvPr/>
        </p:nvPicPr>
        <p:blipFill>
          <a:blip r:embed="rId3"/>
          <a:stretch/>
        </p:blipFill>
        <p:spPr>
          <a:xfrm>
            <a:off x="388800" y="4292640"/>
            <a:ext cx="8634600" cy="2082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990720" y="61722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l per capita non-health spending (thousands of 2009 dollars using GDP price defl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1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a | Real per capita non-health spending currently is higher in households headed by elderly people; this was not true in 1984</dc:description>
  <dc:language>en-US</dc:language>
  <cp:lastModifiedBy>Jia Yao</cp:lastModifiedBy>
  <dcterms:modified xsi:type="dcterms:W3CDTF">2013-09-23T17:02:0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a | Real per capita non-health spending currently is higher in households headed by elderly people; this was not true in 1984</vt:lpwstr>
  </property>
</Properties>
</file>