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5B55-EEE4-4F3D-8086-62DE44FD4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FD94-FECE-4EB1-A116-6DAADEC35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B | RATIO OF HEALTH SPENDING PER CAPITA FOR ELDERLY RELATIVE TO NON-ELDERLY IN SELECTED INDUSTRIALIZED COUNTRIES, 1960, 1984, AND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ADF-17E7-4BC0-980B-A6DBDB3B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387-F71C-4CD6-96BB-C5640391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9B7C-C089-4808-A976-247283F5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BAE-99B3-441E-8D8E-55AE4378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7439-CF80-4C11-96AC-75F3E5D3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5503-9C45-41BA-AD14-3E5CFB0A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50D8-496C-42EB-90AA-441E800F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0811-9DD4-474D-9036-59CB8B9C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01E8-8B5C-442F-8228-40D64213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691F-878D-425A-9BA8-11C983B8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1BA8-2991-4594-94E5-6A4CABD9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087-B9D3-477E-8A33-3C3D4822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CCF0-28B4-431A-8348-AA9A76F9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FE88-86C3-49DE-8015-DE9477F4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346B-8435-448B-8DE3-06F16E4E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3AE3-8562-41E9-92D9-33E87993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5040-7B4E-4EA4-A2CD-B3F99628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466-788D-4022-A681-6207FED5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0A7-34C5-4100-BE6F-C6D100B2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022-5F6A-405D-A204-C2FE5003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BF7-B949-4D4D-AE28-95CCDF02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977-CAD7-4E2F-80DF-0E97DAD2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DE3-31DE-4F50-98AC-E196B9D0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E33-1FA3-4CA1-9DCE-66D54614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C44B-16CB-4B2D-93E2-CA2989CC5B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40FE-1F33-4CC5-835D-C1118535A9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b | The ratio of annual health spending for elderly relative to non-elderly is similar in U.S. and other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" y="602784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b | The ratio of annual health spending for elderly relative to non-elderly is similar in U.S. and other countries</dc:description>
  <dc:language>en-US</dc:language>
  <cp:lastModifiedBy>Jia Yao</cp:lastModifiedBy>
  <dcterms:modified xsi:type="dcterms:W3CDTF">2013-09-06T14:06:4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b | The ratio of annual health spending for elderly relative to non-elderly is similar in U.S. and other countries</vt:lpwstr>
  </property>
</Properties>
</file>