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F8EE-704C-4BAA-AC3C-04379FB9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E7C4-5523-4F98-BF76-79F91BFD4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912E-1432-4801-8223-B94246B96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C2D-5F07-4DDC-9CD8-A4995A40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FFF-B85A-4251-A494-A22CDBE6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F57-B355-4098-BF52-CD466B8F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7322-2ED0-4212-9871-1161C7EE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7277-BE6A-415F-98D8-A83EC3102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852-6E6B-4A60-99B4-58127C36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BB3A-CBBD-4D2E-B0BD-5A178799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1B7C-2068-449C-B217-88B326AA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C46B-F913-498C-82D0-D4683CD8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5E6D4-2899-4561-A439-22D6C4CC2F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9360"/>
            <a:ext cx="915516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5Z</dcterms:modified>
  <cp:revision>20</cp:revision>
  <dc:subject/>
  <dc:title>PowerPoint Presentation</dc:title>
</cp:coreProperties>
</file>