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993A-76AC-422B-8F7C-612D4C806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6.7A | PER CAPITA SPENDING FOR INSURED AND UINSURED PATIENTS, BY SOURCE OF PAYMENT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F59-F4AD-48FE-9D92-2764B53E7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89C-38C4-4A77-A507-325175561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D02D-CC59-4288-936E-6E5115919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90F-9FCC-44A4-9673-CC698C5D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5391-8413-4448-8010-39D75928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28F9-C9A6-4E13-989C-9A8C9EC5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F3D5-2586-499C-B4CB-3F946C26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6A0D-5C57-4AD2-ADDA-AE63B7463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A491-2279-4955-B9EE-ECC0B776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D3E1-028C-41E9-9C1D-22A5D3C7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8E1A-47FD-41B8-9BAB-0A7D5256A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8AB2-15FE-4547-B9A2-02962B05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05E9-F615-44D9-A81F-15E0E99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F84B-C002-4C70-8C32-CBD6CDAE4C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6.7a  | Annual health spending per non-elderly person uninsured all year is less than half of the amount for those privately insured all ye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4" descr=""/>
          <p:cNvPicPr/>
          <p:nvPr/>
        </p:nvPicPr>
        <p:blipFill>
          <a:blip r:embed="rId1"/>
          <a:stretch/>
        </p:blipFill>
        <p:spPr>
          <a:xfrm>
            <a:off x="330120" y="1168560"/>
            <a:ext cx="8559720" cy="574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/>
          <p:cNvSpPr/>
          <p:nvPr/>
        </p:nvSpPr>
        <p:spPr>
          <a:xfrm>
            <a:off x="2057400" y="5486400"/>
            <a:ext cx="544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Type of insurance coverage (non-elderly America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42960" y="6019920"/>
            <a:ext cx="82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e: estimated spending for full year privately insured individuals under age 65 was $3,914 in 2008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7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3T16:59:50Z</dcterms:created>
  <dc:creator>Jia Yao</dc:creator>
  <dc:description/>
  <dc:language>en-US</dc:language>
  <cp:lastModifiedBy>Jia Yao</cp:lastModifiedBy>
  <dcterms:modified xsi:type="dcterms:W3CDTF">2013-09-23T17:00:36Z</dcterms:modified>
  <cp:revision>1</cp:revision>
  <dc:subject/>
  <dc:title>6.7a  | Annual health spending per non-elderly person uninsured all year is less than half of the amount for those privately insured all year</dc:title>
</cp:coreProperties>
</file>