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51D4-1426-414D-8B78-15111ABC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1BE-2870-470A-B43F-A7D29F12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FF91-6987-41AE-8240-F58CD5EF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308AB-795C-4DF5-A204-BF94FF6DE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F3BCA-77BA-4726-8699-5675FED6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F411-B8FB-4BA7-BBF6-A8B2B5C7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674B-5CE1-431B-871C-2F98015A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2170-2458-4E54-BCD6-F26D85F84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0C18-F4F0-4E36-9ADB-62697FF1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449-D8E8-464F-B727-AB508DC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8EA1-8E35-4BD3-9E71-353D354E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69C7-5908-49A6-AF54-C8468FEB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91D09-0747-4E87-B70C-A0C3AA295E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53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5:16Z</dcterms:modified>
  <cp:revision>20</cp:revision>
  <dc:subject/>
  <dc:title>PowerPoint Presentation</dc:title>
</cp:coreProperties>
</file>