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E8DD-544A-4FB4-AA87-A26FDE3A2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6 | NUMBER OF UNINSURED AND PERCENT WITHOUT HEALTH INSURANCE, 1940-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Tahoma"/>
              </a:rPr>
              <a:t>Source: Author’s estimates based on CPS, HIAA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67D2-2E0B-424F-B769-8060A592D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297F-A8B7-4DD4-87EB-A3CE048A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FB1-111C-4DE1-A03D-A0F1C0DD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E37-5E2F-4499-99E4-41C53624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1A9-AD15-45DB-AF14-8721C993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2A14-B701-42C5-9822-8A6C8CAC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2D3F-6411-42F2-8BB0-95947F40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7A2-BA7E-4F64-AFAD-2C483B79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9BF2-896E-4343-B51F-80929429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F1D0-3A60-493B-B365-942897B8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FB68-8C57-42D3-81C3-FB945B98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1DD5-3A06-4BAC-B761-3466B5F0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CCC-D615-485D-B665-6157FA71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924D-7961-4D4D-9806-02953FD92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6 | The risk of being uninsured has declined by more than 80 percent between 1940 and 201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228600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325440" y="5943600"/>
            <a:ext cx="865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: Figures simulate the gross number of uninsured as if measured by today’s Curr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pulation Survey. No adjustments have been made for the 10 to 20% overcounting 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nsured by the CP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TextBox 1" descr=""/>
          <p:cNvPicPr/>
          <p:nvPr/>
        </p:nvPicPr>
        <p:blipFill>
          <a:blip r:embed="rId3"/>
          <a:stretch/>
        </p:blipFill>
        <p:spPr>
          <a:xfrm>
            <a:off x="4979880" y="914400"/>
            <a:ext cx="3140280" cy="512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6 | The risk of being uninsured has declined by more than 80 percent between 1940 and 2010 </dc:description>
  <dc:language>en-US</dc:language>
  <cp:lastModifiedBy>Jia Yao</cp:lastModifiedBy>
  <dcterms:modified xsi:type="dcterms:W3CDTF">2013-09-06T14:06:28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6 | The risk of being uninsured has declined by more than 80 percent between 1940 and 2010 </vt:lpwstr>
  </property>
</Properties>
</file>