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AD53-067D-497D-ABCA-F6F2D7E9E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DFD5-6F01-438D-BF47-AA285F365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9E8E-D660-496A-A6A8-E553D04A3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D8B8-55EB-4EE6-A785-2FDA42D4F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153E-7717-49D2-9E9F-2E05ECF64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BD6C-B1EF-48EA-9072-EDCB01000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20FF-AA69-4A47-8C93-6990E9518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10F8-2272-435B-B8D3-6E7D4D3CE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798C-E5D5-4002-AF38-239470B38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7E41-BCA7-4675-B827-CEBA86264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01B2-3038-4703-A60B-15DBB4FB1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CA92-44C2-42A4-84C1-34A3FB932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5A629-3C7A-427F-9C38-41A1A660E5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519200" y="0"/>
            <a:ext cx="6105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13Z</dcterms:modified>
  <cp:revision>20</cp:revision>
  <dc:subject/>
  <dc:title>PowerPoint Presentation</dc:title>
</cp:coreProperties>
</file>