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2A20-2B09-4D6F-A48E-1F0E5F519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6.5 | PERCENT WITHOUT COVERAGE, BY SINGLE YEAR OF AGE, MARCH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A224-12B1-4823-A7D1-79A80805A1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4328-F483-4026-8AE6-6EA36EA4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D345-05AD-4718-B144-F83001D6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3A14-048D-4DE2-A99E-12149EBD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3EE-BC9A-4507-9CC1-604DC7D0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5775-93AF-427D-9C0E-D6B3C71F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8D66-28A4-438E-A9D8-254A1CE9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561F-B10A-4F68-9585-98B1DD4C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976A-B29D-4030-B80B-E65C486A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B2F-7AEB-4E12-9D94-1EBC523D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0FC-ACCE-411A-B736-9E754E82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D13-FDE8-421C-9EAF-E34B1873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DE3-2BFA-4B53-904D-BAE3C9AC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B06B-2509-43C8-AA4F-191E26E33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5 | The probability of being uninsured is far higher among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863640"/>
            <a:ext cx="8331120" cy="55116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450720" y="914400"/>
            <a:ext cx="2981520" cy="512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52:14Z</dcterms:created>
  <dc:creator>Kristy</dc:creator>
  <dc:description>6.5 | The probability of being uninsured is far higher among young adults</dc:description>
  <dc:language>en-US</dc:language>
  <cp:lastModifiedBy>Jia Yao</cp:lastModifiedBy>
  <dcterms:modified xsi:type="dcterms:W3CDTF">2013-09-06T14:06:25Z</dcterms:modified>
  <cp:revision>2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6.5 | The probability of being uninsured is far higher among young adults</vt:lpwstr>
  </property>
</Properties>
</file>