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8DD5-2C84-4108-963D-F1E3020B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674-0E51-4CA2-B68A-DAF19611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143-3ED3-45BA-ACA3-F3C5D4EE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2E29-E60E-4577-96B8-336402B1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A368-F713-43F4-BDA6-DFC498D2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200-F424-4D84-B0EA-51EC5B28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2BA-33D8-452E-8BE5-0431BA5E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C15-1726-40FF-B7E1-20FA5F28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781-5444-44B9-BFE5-63EB1827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7D4-A219-4458-968F-83F77B43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B1B-5FB7-460A-8D4B-9125330D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3EE-E472-4390-82FC-0DD197E3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6C59-D612-4D57-8462-3B619F52F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4920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1Z</dcterms:modified>
  <cp:revision>20</cp:revision>
  <dc:subject/>
  <dc:title>PowerPoint Presentation</dc:title>
</cp:coreProperties>
</file>