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E62-E647-439A-B3D4-9794D19D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622-B626-4788-A3F3-E1E76BB3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DDF-250B-4223-B551-D9C4425D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10B-7CB8-4FCF-AACA-70F861ED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DAC-B70D-422C-9ABF-AEE9A905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91D-EEFA-4DF6-A351-F9619981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6C9-2413-421F-9FFB-C802DD39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246-00C0-438B-9A55-554FE89F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C8C-0DC2-4C71-B0BE-FE5C4E81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ED5D-28C3-41CE-8A5B-7117AD9E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A80-ACA5-4C27-B362-87CC192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B02-1937-402B-863C-9CA1545A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3BA1-77ED-459E-B6F6-4746619E7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4920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1Z</dcterms:modified>
  <cp:revision>20</cp:revision>
  <dc:subject/>
  <dc:title>PowerPoint Presentation</dc:title>
</cp:coreProperties>
</file>