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E2C3-5511-40F2-8564-B3E42144AA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.5 | PERCENT WITHOUT COVERAGE, BY SINGLE YEAR OF AGE, MARCH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04F6-9150-45A7-B78C-BD26EE8BE7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5BCF-C5B9-4879-8299-F510B572C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F58D-60FD-417D-9281-B6164A2E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A0E8-DFFD-4E0B-AFBE-A068E1FD7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E128-07F9-4FB0-A37C-6331F89DB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E44A-3A56-49B4-B7A5-5E1C4178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6EFA-C004-4718-94FD-2E5E9931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95E8-1FE0-4DCB-90D7-C45755E7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215B-8B74-43F7-9246-846934E7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1305-29B1-4781-830C-7FAA6A38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8393-BB37-4D01-B3ED-71C8ADA4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5E0E-BED8-4654-ADF1-056E9ED9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2880-D49D-4D8E-859B-7CBB0B99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6458-BEC7-450E-AB4A-B5D0BA78C8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5 | The probability of being uninsured is far higher among young ad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863640"/>
            <a:ext cx="8331120" cy="551160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1" descr=""/>
          <p:cNvPicPr/>
          <p:nvPr/>
        </p:nvPicPr>
        <p:blipFill>
          <a:blip r:embed="rId2"/>
          <a:stretch/>
        </p:blipFill>
        <p:spPr>
          <a:xfrm>
            <a:off x="450720" y="914400"/>
            <a:ext cx="2981520" cy="512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5 | The probability of being uninsured is far higher among young adults</dc:description>
  <dc:language>en-US</dc:language>
  <cp:lastModifiedBy>Jia Yao</cp:lastModifiedBy>
  <dcterms:modified xsi:type="dcterms:W3CDTF">2013-09-06T14:06:25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5 | The probability of being uninsured is far higher among young adults</vt:lpwstr>
  </property>
</Properties>
</file>