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911-0415-4350-8089-662E3A44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2F1-2337-4A62-8348-5F3B1FDB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1B4-4EE1-4F3A-AE54-E18CA194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616-CC70-4DBA-831A-02C0494A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3C3-8647-4F4D-B880-792C8E0C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15F-B9CD-432E-92EC-3D7149DB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97B-168E-4362-8C59-D797EFF8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C82-1095-4E8E-B075-41A08485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71E-4738-4689-831A-376B2E87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2D1-306F-4CE6-B7E1-9C143452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271-D3EA-4C8A-BB9D-F4F1105E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E0C-8FAF-430D-A01F-8648135D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85CB-7AF4-4DD9-82D3-963E4FA46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4920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1Z</dcterms:modified>
  <cp:revision>20</cp:revision>
  <dc:subject/>
  <dc:title>PowerPoint Presentation</dc:title>
</cp:coreProperties>
</file>