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DE5D-44CA-46DC-8E5E-3219CCE94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5 | PERCENT WITHOUT COVERAGE, BY SINGLE YEAR OF AGE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5C81-C615-4292-8BBB-26CEFA956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011-B423-4BD1-BCDB-0C09C709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D5B-79A4-41F1-ACB6-E07A7376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3DD-F85A-4CEF-B9B7-8FE3D2FB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55E-8A32-442D-8C6F-00149198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04A-ED21-419C-801F-887F2514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FAA-F30B-4653-B9E0-A53FB020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612-67FD-4D08-8E41-6B99E861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2BA-4848-4208-B78E-1A58417A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7B6-0998-44AE-ABED-BC12CF5B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2CF-22CF-44C0-AE93-DCB972A8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85A6-ADF5-4096-BD48-951BA810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39E-1D0E-456F-8B50-81B2994A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B95B-D371-408F-819F-4E8AFD597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5 | The probability of being uninsured is far higher among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450720" y="914400"/>
            <a:ext cx="29815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5 | The probability of being uninsured is far higher among young adults</dc:description>
  <dc:language>en-US</dc:language>
  <cp:lastModifiedBy>Jia Yao</cp:lastModifiedBy>
  <dcterms:modified xsi:type="dcterms:W3CDTF">2013-09-06T14:06:2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5 | The probability of being uninsured is far higher among young adults</vt:lpwstr>
  </property>
</Properties>
</file>