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7991-EDAE-4B5F-B5EB-40B315EE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699-6507-4CA2-80EA-75C4A50D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3B47-DA85-49A0-BCF2-1EA5CDC3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E752-79BD-47D1-9F11-8B42F672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3C0-70FA-48E6-810A-574EB710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D70-847B-4651-A2CE-568C5BBD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E055-4038-4492-BC4C-5D2CDCB9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8C7-6F9F-4648-8156-EF85D525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A51-3BA6-419F-BEDF-C3E3689A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8B43-BCF7-4248-84A4-44CF6D27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4BB6-27CD-48A6-948B-2D354E2A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C1B-604E-4CC3-8D05-61E47951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82AB-20CB-485C-8C4B-D990E671F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326880"/>
            <a:ext cx="906480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9Z</dcterms:modified>
  <cp:revision>20</cp:revision>
  <dc:subject/>
  <dc:title>PowerPoint Presentation</dc:title>
</cp:coreProperties>
</file>