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59B5-55FC-44CB-BA31-DE6222546C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4A | HEALTH INSURANCE COVERAGE, NON-ELDERLY ADULTS, MARCH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8D62-24C0-4092-BD36-F6C106B5A9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EB16-E37B-440E-A397-7D8B060F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33C8-FFAD-478C-96F7-FC7F64A5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6E26-E2B3-4ABF-860F-A5C1E960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FE00-DF53-45DC-962C-805C9418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1B1F-AD3A-471A-ABDD-F733A9F4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9A70-B6DC-4749-9852-E5885D6B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AC28-5686-40F3-92AC-B2E04549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5FE3-2863-45F5-B4D2-4A355EC0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3EF2-A954-4CC3-83E0-7B1C51B6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97DF-27B3-449E-B81A-A70F4958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1270-AC17-4247-9D73-7B6E936B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337D-DFBE-40C2-A45F-7426BCCA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FE4E-904F-4D2C-AC9A-A1829DA68D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4a | Most non-elderly rely on private health insurance coverage, typically through an employer health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"/>
          <p:cNvPicPr/>
          <p:nvPr/>
        </p:nvPicPr>
        <p:blipFill>
          <a:blip r:embed="rId1"/>
          <a:stretch/>
        </p:blipFill>
        <p:spPr>
          <a:xfrm>
            <a:off x="177840" y="863640"/>
            <a:ext cx="8559720" cy="589284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590400" y="1219320"/>
            <a:ext cx="7620120" cy="512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4a | Most non-elderly rely on private health insurance coverage, typically through an employer health plan</dc:description>
  <dc:language>en-US</dc:language>
  <cp:lastModifiedBy>Jia Yao</cp:lastModifiedBy>
  <dcterms:modified xsi:type="dcterms:W3CDTF">2013-09-06T14:06:21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4a | Most non-elderly rely on private health insurance coverage, typically through an employer health plan</vt:lpwstr>
  </property>
</Properties>
</file>