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2F066-8159-4A6F-AF41-C8410EDB50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997EE-59BE-4B54-8A85-FC1E0A316B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6.4b | Publicly Financed Share of Personal Health Expenditures for Children, Adults and the Elderly, 1965, 1977, 1987, 1996, 200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CBDD-E78B-4ADB-B442-5B5A6FEF5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4803-B904-4C10-9E7E-95128AAC1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4EF0-5396-4ACC-ADCD-6A4AAB075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5027-621B-4217-843F-113C5E6C9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38970-3DAB-4D99-ABB6-37D9F65D2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02DE2-6AA4-4C8D-A482-E67D45E07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93D92-D46B-4DDD-B240-45727120E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80E50-6AAE-47DC-A198-6FBD037C5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8FBCA-878A-42F7-8B51-DCCA8E258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26EA0-6D42-4BC3-98E4-67635D06F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4C1A8-7ADA-413E-86AB-2F0DE9032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E06F-84E3-4D27-8461-F6A81EFF1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997D2-6470-44F3-90AA-9B4E0D3FB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F8E6B-0574-44D4-B4AB-611DC6283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BC07E-F89A-4D11-81A7-D1E1023C0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3C72A-EC4D-4068-9C66-3C0D855E1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75759-48A5-48C5-9102-68476C573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E9CB-88A3-4687-8212-2A0646C91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AB5D-75D8-4598-87C4-78FFF64AF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9AB7-3E67-4560-B637-9C1B5BA7E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E919-51DE-428F-A158-39D2C99FF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7036-F1E4-41DF-8B2E-A442D878E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11C4-E3EC-47D8-AD50-8161B2570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F5EA-06DD-4A3D-9502-7FEAAAEBD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FDEE4-075C-4296-A051-39E7F3B8C89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9DFD9-736D-412F-9036-00753E7BB1D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81536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6.4b | The elderly depend most heavily on publicly-provided health care, which covers about two thirds of their medical cost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Object 3" descr=""/>
          <p:cNvPicPr/>
          <p:nvPr/>
        </p:nvPicPr>
        <p:blipFill>
          <a:blip r:embed="rId1"/>
          <a:stretch/>
        </p:blipFill>
        <p:spPr>
          <a:xfrm>
            <a:off x="254160" y="787320"/>
            <a:ext cx="8559720" cy="6121440"/>
          </a:xfrm>
          <a:prstGeom prst="rect">
            <a:avLst/>
          </a:prstGeom>
          <a:ln w="0">
            <a:noFill/>
          </a:ln>
        </p:spPr>
      </p:pic>
      <p:sp>
        <p:nvSpPr>
          <p:cNvPr id="91" name="TextBox 3"/>
          <p:cNvSpPr/>
          <p:nvPr/>
        </p:nvSpPr>
        <p:spPr>
          <a:xfrm>
            <a:off x="457200" y="5562720"/>
            <a:ext cx="8175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: public insurance includes Medicare.  Since a portion of Medicare spending i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id through voluntary premium payments, the entire amount should not be view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 taxpayer-financed spending even though Medicare is categorized as a Federal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pending in the standard National Health Expenditure Accounts framework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4T11:52:14Z</dcterms:created>
  <dc:creator>Kristy</dc:creator>
  <dc:description>6.4b | The elderly depend most heavily on publicly-provided health care, which covers about two thirds of their medical costs </dc:description>
  <dc:language>en-US</dc:language>
  <cp:lastModifiedBy>Jia Yao</cp:lastModifiedBy>
  <dcterms:modified xsi:type="dcterms:W3CDTF">2013-09-06T14:06:23Z</dcterms:modified>
  <cp:revision>260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6.4b | The elderly depend most heavily on publicly-provided health care, which covers about two thirds of their medical costs </vt:lpwstr>
  </property>
</Properties>
</file>