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CE8-2AED-4BCD-8AC5-F6EC408A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537-196A-4420-ACF7-BB647D32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11F-753F-4568-BE26-C7125F5F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D6D-8863-4BA5-91EB-020B480F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BAA-32E3-4444-9467-4C29A393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2CE-A254-4BEA-9489-549F7DEA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9F8-E608-47A6-BB13-4856DCA1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09D-8768-4979-B42F-5D20764B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4AB-C94D-4074-A8DE-E893B06A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D37A-E3D1-4FF2-BE86-42956C6E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851-0670-46C1-A777-B6135A6E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92C-6BDF-4792-B408-AC0B72FD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7C31-5E84-48C0-BE58-2710568F1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0Z</dcterms:modified>
  <cp:revision>20</cp:revision>
  <dc:subject/>
  <dc:title>PowerPoint Presentation</dc:title>
</cp:coreProperties>
</file>