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BAB-2774-4354-9642-C3A3F8F6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8B7-AFC4-4E66-8823-801CBE24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536-2849-41E8-A429-BA8A2BAC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B21-7FD6-4201-9B32-7799896B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A85-AFE9-4752-A510-6AD2DA12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839-B3CC-4979-AD93-E3048E3B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6B0-9862-46DD-8154-8E115A04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A81-0922-47C8-A54A-47B80226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BB0-317C-43DF-BF41-40936BE4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8E5-C870-4845-AAC2-76FF4A8D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0BA-5D2F-4082-BFC4-7469E337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57D-7F22-4C72-8E8A-EC1F1AD9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30E3-75B8-4204-B6D0-1E1444FBF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0Z</dcterms:modified>
  <cp:revision>20</cp:revision>
  <dc:subject/>
  <dc:title>PowerPoint Presentation</dc:title>
</cp:coreProperties>
</file>