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8207-607C-4D97-A0C3-AEBFC5BE37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6.3A | MAJOR COMPONENTS OF HOUSEHOLD EXPENDITURES, LOWEST INCOME FAMILIES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FDF5-25B8-4120-A874-B9672CD478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D3C4-CDFB-43CB-96A6-47E07D238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ED94-829D-4E04-8A3E-FDD05B9A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003E-ED84-43F0-B00A-69EC9268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C593-4236-4914-AF19-C0370FD4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DCDA-0F89-4641-9533-87D0F815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1440-80A5-46C4-A26F-EA6DE0D8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BDB9-8C31-4508-B1A7-67E2700F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144C-2EBE-4BF1-8009-45230F5C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31D1-91A4-429F-8958-7B02D180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4D2E-8798-4096-8C57-2E723528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73E2-338E-40A0-AAE2-DC430642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57B3-21CC-46CA-8BAD-C195BEFD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EB77-4D21-4E24-9287-EEFB5693DA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3a | Direct health expenditures constitute only 1 in 16 dollars spent by the lowest income fami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24452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676520" y="6324480"/>
            <a:ext cx="64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ajor Components of Household Expenditures (ranked by size in 200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3a | Direct health expenditures constitute only 1 in 16 dollars spent by the lowest income families</dc:description>
  <dc:language>en-US</dc:language>
  <cp:lastModifiedBy>Jia Yao</cp:lastModifiedBy>
  <dcterms:modified xsi:type="dcterms:W3CDTF">2013-09-06T14:06:17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3a | Direct health expenditures constitute only 1 in 16 dollars spent by the lowest income families</vt:lpwstr>
  </property>
</Properties>
</file>