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2EC-0C1D-4402-8BA6-BD6D3AA1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BF88-7F2B-4EE5-974D-BFC4E4CB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75B-9446-4872-8E37-17E131AB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7F1-7349-4D3D-A6EE-3863A611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F5C-EC14-4300-B76D-B4CE69DC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476-AF0C-4D1B-9BE9-43574DDF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C6F-E09F-41F1-8453-4DB25737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670-F56F-484A-8736-5C9A4AB6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0D2-61BD-42C1-96EF-C24B349D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1FE-6C93-4D88-AE76-A6A1EBE5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976-0AE6-404D-AA67-2DABB845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D5C-7FF4-4420-B2B2-69626F54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B1FF-1192-47AB-A05F-C96319F54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8680"/>
            <a:ext cx="912024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3Z</dcterms:modified>
  <cp:revision>18</cp:revision>
  <dc:subject/>
  <dc:title>PowerPoint Presentation</dc:title>
</cp:coreProperties>
</file>