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A91-12A3-4FF7-99F0-8B0634F9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095-C230-41FF-981A-9FD9315C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211-0C1E-4969-921A-C2A36F8D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5B1-ABCF-4D6C-AD5A-2404C496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6ED-DC13-4D8D-A1B0-5005D3B8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3FC-189D-4B4D-A97E-A24DAD71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F86-375C-4FE7-AE6D-B515610A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107-9C7B-4E3B-8A31-80F6C6A1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AA5-65A2-4C6E-94BA-17F009CE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60D-F4F3-4689-9F57-866988E8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5E3-88E5-482C-B3B2-9CC7006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7B1-F22C-456B-B94A-021AD570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ABF3-247E-4762-B2F9-ACA97D803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4Z</dcterms:modified>
  <cp:revision>18</cp:revision>
  <dc:subject/>
  <dc:title>PowerPoint Presentation</dc:title>
</cp:coreProperties>
</file>