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AFD-7726-42F6-B8E1-B60A58DC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D65-A338-435B-8A2D-087D75EE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5A3-2DCB-41EB-822A-36DD9FCA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D3C-8F48-41E6-8D4B-05AA0649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8FC-846B-4D14-AB55-51F046DA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E4F-3093-4698-BAA8-EB9DBA8C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FF1-6D72-4DEC-B767-8CDE9FA1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06F-E5FB-40EB-902A-410A2849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F70-E274-43EB-8578-1FC10674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BCA-A6A1-4FF4-A1BC-33921D5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33E-7BA8-4B70-A933-DE7EF7C9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C1A-5EA1-4C33-885D-A72B1D52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A2E4-496E-4EB0-8AFC-DFCCD595A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7920"/>
            <a:ext cx="9002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2Z</dcterms:modified>
  <cp:revision>18</cp:revision>
  <dc:subject/>
  <dc:title>PowerPoint Presentation</dc:title>
</cp:coreProperties>
</file>