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3C3F-C3DE-4F81-84EC-A38E38505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12D1-A7CE-4DFF-B225-300FB3BA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7A10-4750-4A74-AEA5-8260B0C55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5618-9526-4070-A3DC-E37D3F30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E226-3083-4935-BE05-911BF710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C589-D54C-4019-A00E-E3A7529B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C940-E9BA-4019-90A3-6E5E498E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2963-29AF-4172-B070-9AFE7A14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E159-266D-4A8E-8BC7-3F0976FB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CF81-9548-45BE-BEF6-CC710D7A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92C5-0A1D-4932-AC9F-BF608140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2EE6-AA40-4B4E-961B-53932910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05F7-21C3-45AE-B55A-31D6E28C1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90360"/>
            <a:ext cx="9144000" cy="667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0Z</dcterms:modified>
  <cp:revision>18</cp:revision>
  <dc:subject/>
  <dc:title>PowerPoint Presentation</dc:title>
</cp:coreProperties>
</file>