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BB5B-E939-4164-B117-099CF575D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B | COMPONENTS OF PERSONAL CONSUMPTION EXPENDITURES, 1929, 1969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786C-09DC-4C6E-8690-12E2B09D8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89D-D0A1-44BA-BCB7-E7B1B869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6F5-8632-4772-8BAD-FB18A5F5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9DD-3153-4172-AEE2-6E3C6780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0B22-3219-49BB-82AD-CB3D058B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CD9-85A6-42A3-BF66-9116105F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572-5811-43DB-9E21-66AF2A31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33F-1831-4A82-83B7-76315599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1BF-E606-4AA5-BC4A-6D7D2887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937-5C09-4AFF-BE46-5D36E90C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D09-BE02-4FC5-8B71-4F78291B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370-254E-4D8C-BFFC-42257A8B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8A2-8981-4C00-8164-D42A019F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DF76-C0D2-41DD-B64F-B7F02C07B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b | The health share of consumption spending has grown as the portion for food, clothing and shelter has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7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435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62120" y="61722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personal consumption expenditures (listed [left to right] by amount in 201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b | The health share of consumption spending has grown as the portion for food, clothing and shelter has declined</dc:description>
  <dc:language>en-US</dc:language>
  <cp:lastModifiedBy>Jia Yao</cp:lastModifiedBy>
  <dcterms:modified xsi:type="dcterms:W3CDTF">2013-09-06T14:06:1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b | The health share of consumption spending has grown as the portion for food, clothing and shelter has declined</vt:lpwstr>
  </property>
</Properties>
</file>