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365D-615E-4CB7-B616-FD5F64CD8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A967-598D-44E0-88EC-592AE4E0E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993A-BD9D-4F8D-AC0B-A788D596A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BD2F-FC35-4C78-B847-53FCBC310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4FBE-C9B4-413C-A9CA-F8772F46D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8178-AF15-48B2-8F84-B5C807F48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3E4B-9C0B-422C-8637-441CBC617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A00E-BE3E-4AD8-B42F-E326CC604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211D-73B5-40BE-B171-E87694E96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AEA1-F739-4E36-87B4-44D4830E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581F-1FFD-4284-91A0-65D7F570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A365-2E30-4145-9A2C-8AE7A17E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91BD8-A92A-4CC9-A6C0-5466EB559F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90360"/>
            <a:ext cx="9144000" cy="667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00Z</dcterms:modified>
  <cp:revision>18</cp:revision>
  <dc:subject/>
  <dc:title>PowerPoint Presentation</dc:title>
</cp:coreProperties>
</file>