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F951-C501-4D3D-957E-8868024A2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1B | COMPONENTS OF PERSONAL CONSUMPTION EXPENDITURES, 1929, 1969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AD40-10E5-4748-8B54-4DAA85524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0AE0-53E3-4C17-8459-4B180BC2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580A-6C78-426C-84A2-337F37FD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AD4E-3123-4C3C-8AE0-BC8377AA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8E1B-B174-43D1-A508-9B162634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CBC-B98E-4180-9996-2C4D5F9D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30D0-3CE3-4799-8C21-D8AF7E0C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E23-E6DC-4244-AA38-EB0A65E0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B85-1F9A-4219-844F-6E49A282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4D9A-7B5E-4F06-9427-9EEDA1FC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DFD-6309-41C8-B56D-9042655C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EA1A-6079-4888-8D83-7756DFA2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30E-9D72-417F-9A3D-BFDEAD26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17AC-6A1E-4DDD-ACF0-5593C8115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1b | The health share of consumption spending has grown as the portion for food, clothing and shelter has decl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7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435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62120" y="61722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personal consumption expenditures (listed [left to right] by amount in 201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1b | The health share of consumption spending has grown as the portion for food, clothing and shelter has declined</dc:description>
  <dc:language>en-US</dc:language>
  <cp:lastModifiedBy>Jia Yao</cp:lastModifiedBy>
  <dcterms:modified xsi:type="dcterms:W3CDTF">2013-09-06T14:06:1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1b | The health share of consumption spending has grown as the portion for food, clothing and shelter has declined</vt:lpwstr>
  </property>
</Properties>
</file>