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39FFE-5E94-44DD-9014-83AD3A50F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A0BF1-870B-4EF2-B69B-B1437E6F2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3E740-B140-4025-AC06-EC7DD5315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9B01E-9C61-4838-927A-9633A82F7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36D46-FBE2-43AB-8351-A1F74F48D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79AC6-6B72-4D6E-8C5D-E7918D62A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E4E4A-6478-4E1F-BC56-5C2F7280E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24E95-4B1D-4FAD-8187-28EED8C55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18616-46DF-4420-A9BE-493116B90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2A2CA-0214-4AFB-812D-6F43EAB1C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AE18D-DBBB-4346-BC8B-F39A4B0F7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455CF-7857-4D4E-BE9D-9FD94AF04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FC2AF-D907-4E5F-8D03-92F0CF485A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109440" y="1143000"/>
            <a:ext cx="89251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3:35Z</dcterms:modified>
  <cp:revision>14</cp:revision>
  <dc:subject/>
  <dc:title>PowerPoint Presentation</dc:title>
</cp:coreProperties>
</file>