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677F-7CF2-4FC2-975A-E332892C5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86FE-758F-45D9-92E0-3E7C1CD3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3862-EE47-42C2-B6D8-72E530A12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40B8-EA26-41F5-8F05-75AFD6966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142F-C9EF-44E6-98F0-C95F9C6F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0A80-85CF-4B04-BBFC-933338E4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CE8B-CAE7-4E0D-92AF-71BB9659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BDC9-1B17-42EA-8A98-F42F4C92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D0D8-204C-41A1-8F3C-7BC22716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EE1F-3772-4F34-8BA7-F7CE519C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53A7-24D5-4767-8563-26DD2C3E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557B-5CE3-4C2D-BDA9-C845BF63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6C63-8BFC-4D73-8E20-55F630EB5E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1363680"/>
            <a:ext cx="912816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6Z</dcterms:modified>
  <cp:revision>16</cp:revision>
  <dc:subject/>
  <dc:title>PowerPoint Presentation</dc:title>
</cp:coreProperties>
</file>