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4F9F-EC2F-4C24-995A-C70B77BC7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5.7a | Medicaid expenditures as a percentage of total state government expenditures, FY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2429-C49B-47A7-A74D-7815AEBBD7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BD24-A59F-4722-8E27-33E8D0D0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A8B7-29B2-4C3E-BFD7-05F34DE9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B466-7C6D-4014-A4DF-CA810439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3445-8E19-4951-9372-0BCCDAA6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9BC4-4918-4F66-A8C6-91007156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E329-11D5-4F77-8789-22D193FF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83F2-F530-4325-8FBF-143B449E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FD39-DADB-45F1-A7EB-EB4AC76A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A0AE-3685-4815-B6E1-51155B5B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8574-A1E9-4384-9AEA-CB0F81E1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1F3D-5A37-478A-927F-643DFA56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D5BF-B404-4720-A035-8AC0A773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755F-5335-4BC1-BF06-5D093258B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aas4064.asadmin.duke.edu:60620/results/C/Users/lc135/conovermapchart5_9.pn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64192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1143000" y="685800"/>
            <a:ext cx="693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5.9--Medicaid expenditures as a percent of total state government expenditures, FY20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2"/>
          <p:cNvSpPr/>
          <p:nvPr/>
        </p:nvSpPr>
        <p:spPr>
          <a:xfrm>
            <a:off x="1104840" y="609480"/>
            <a:ext cx="69343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.7a | Medicaid expenditures as a percentage of total state government expenditures, FY20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/>
  <dc:language>en-US</dc:language>
  <cp:lastModifiedBy>Jia Yao</cp:lastModifiedBy>
  <dcterms:modified xsi:type="dcterms:W3CDTF">2013-09-06T13:59:4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/>
  </property>
</Properties>
</file>