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D300-9866-4289-B074-654ED5260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2B1B-076D-4C02-BD32-6AE3A85F3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180-6433-41D0-BD72-15E0E93B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441-340F-433C-A6A3-26203FC6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172-AFC2-4F63-871A-595B45AE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F39-BE1B-4017-8648-E30C463C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C84-BCA6-432B-B47A-67BC18D0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B44-AEAE-4EB4-8050-4B0C18F9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123-81AC-488A-BDE5-1A78AA04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171-6A89-4561-B62C-53F26F34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6A3-0CF5-4FD3-83CC-0199B730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1D8-1923-4288-A374-FAB79528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E24-DC76-488F-918B-46B7A537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F00-D936-4445-893E-AD1281AE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0E7-1BE9-4E5C-9156-6EC9143F0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as4064.asadmin.duke.edu:60620/results/C/Users/lc135/conovermapchart5_9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6419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1430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9--Medicaid expenditures as a percent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104840" y="609480"/>
            <a:ext cx="6934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/>
  <dc:language>en-US</dc:language>
  <cp:lastModifiedBy>Jia Yao</cp:lastModifiedBy>
  <dcterms:modified xsi:type="dcterms:W3CDTF">2013-09-06T13:59:4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