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18A6-CE63-476D-A5ED-B697517A8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7883-FBE1-423B-8416-4EC72F028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DA80-5049-4A4C-8998-1A47F4134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A7A0-9543-4D67-B43C-7C5BAC5E5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8BED-7B52-4651-B4F3-F5CFC5E8D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57C9-8EB0-4E0D-8FDE-F815CD0EA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B0B4-D80B-44DB-9F21-C1194C778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87FD-5749-452C-9155-DE979D4B5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C6C0-345E-4971-B4F1-3936CC71F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13E1-F005-4DF9-B80A-57AC9112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A998-B84E-432B-A06F-2D767866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CA08-E891-484E-B730-42F7ED9B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25370-0E07-4FE3-A5C7-83282DA5D9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1363680"/>
            <a:ext cx="912816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36Z</dcterms:modified>
  <cp:revision>16</cp:revision>
  <dc:subject/>
  <dc:title>PowerPoint Presentation</dc:title>
</cp:coreProperties>
</file>