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3E37-2D9F-4537-8F7F-D40E06E9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858C-6DE9-48DA-A727-8C732035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D25-8B60-49E9-9320-90B3A583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446C-3E66-4EB8-B388-2D8A63AD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CA2E-ABBE-4B8A-BF09-C37A2CD6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CA8C-0167-4B4F-9A3D-ED3801B0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EB80-C1F1-4CD5-A15D-5D5D3478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D7DB-2321-4BD0-B53C-273ED0ED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AB8-D1F7-43AF-9E5D-6B3990DE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78A1-CF9B-41C3-B69A-A5A5D839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FB7B-E789-4EF8-9585-1DCD4255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3F99-9F6B-4DCA-9BC4-3C66FD96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6F2C-FD96-430B-AEAA-0366A4D65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95560"/>
            <a:ext cx="90964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8Z</dcterms:modified>
  <cp:revision>18</cp:revision>
  <dc:subject/>
  <dc:title>PowerPoint Presentation</dc:title>
</cp:coreProperties>
</file>