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E1EA-F76F-4166-81BC-A965F280E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B | MEDICAID EXPENDITURES AS A PERCENT OF STATE AND LOCAL GOVERNMENT EXPENDITURES FOR THE HIGHEST AND LOWEST STATES (IN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39CB-F6AF-47B8-8EA9-4A9E54ED8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79C2-8C27-4B2C-A8E8-3EB3809A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E4A-A782-4381-9D5E-CB53A9FC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9B5-1C61-4643-BBCC-C661B8E5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7E0E-8965-40CA-9E87-3E105A9C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42D-EF30-473C-AE34-11E8BE55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00F-5809-47F2-8FA4-A1F0EDB1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B9C-3D05-4771-B572-0BB0E3D9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050-001F-444D-82F7-C7CA615A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5D0-3812-4820-920F-C7A37EC4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770-8DC3-4DBC-A02A-A566FCCB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453-EC71-46E0-BAF4-9471CC7C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65FB-0E57-4A3F-B275-5CD4B359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1EFA-FF28-40A8-96C7-9300797F1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b | The Medicaid share of state spending varies by a factor of 3 across st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863640"/>
            <a:ext cx="8425080" cy="26161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388800" y="3149640"/>
            <a:ext cx="8196480" cy="307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2057400" y="5334120"/>
            <a:ext cx="55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in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b | The Medicaid share of state spending varies by a factor of 3 across states </dc:description>
  <dc:language>en-US</dc:language>
  <cp:lastModifiedBy>Jia Yao</cp:lastModifiedBy>
  <dcterms:modified xsi:type="dcterms:W3CDTF">2013-09-06T13:59:46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b | The Medicaid share of state spending varies by a factor of 3 across states </vt:lpwstr>
  </property>
</Properties>
</file>