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9ED-9AC1-418A-8201-A0F1FDB2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4FA-2D04-4348-A9A7-D7A24840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DD37-37D9-43E1-92E5-E784B848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822-9314-4849-8F72-CAAAF261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F6F-767F-451C-9728-EA2F052A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E9A-8B73-4F69-876A-8182EEA8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EB9-8C65-4C56-BD50-47C58CFF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FDF-5362-4AF6-AAD2-54D7B1B2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BD2-EBBD-48C3-B7AD-D11C5286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108-2766-4730-AEA0-D10F55B5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DD3-6F46-4A45-91BD-03CCA5DB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F9DC-D78B-410D-A923-7E5638CD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BE46-35B3-411E-BCF9-D2252839F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143000"/>
            <a:ext cx="892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5Z</dcterms:modified>
  <cp:revision>14</cp:revision>
  <dc:subject/>
  <dc:title>PowerPoint Presentation</dc:title>
</cp:coreProperties>
</file>