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AF4-4671-4138-92CC-6615E241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1BB-C941-4424-A407-12549D7B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223-7813-45E3-95CF-172383FC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221-2C83-4CDE-92A7-F7854676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1EF-0194-4A2B-8BC4-AD6600E0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A45-9BE6-40CC-AC46-9041DE4E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924-58AD-4F5D-97AD-FCBFB438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7CE-5A0E-4FA6-A3D2-A4F431C2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9DE-F47F-496E-9D84-305C004F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19C-1993-42DB-91CF-A8D43685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E95-E88A-41A5-950B-62D6F9A2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802-B123-4297-BC8B-044D984D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874D-7794-45CC-B18F-B1B14C143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63680"/>
            <a:ext cx="91281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6Z</dcterms:modified>
  <cp:revision>16</cp:revision>
  <dc:subject/>
  <dc:title>PowerPoint Presentation</dc:title>
</cp:coreProperties>
</file>