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A22-82A4-49FB-8149-06526399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89A-C687-4D2E-9BC2-AE7F1EF6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4CB-B003-440C-9E64-4C06840B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EF9E-03C7-454F-954D-9B7955C7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D3CF-C3FF-4C08-9CFB-388CA86E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9B9-053E-4714-AE9E-4A4898D7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B1A-E01C-4FB2-8B1A-139E0FE4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C984-210A-4DCE-88A8-A52C1125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7B0-2A9F-4AFE-ACDD-89124F70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17E-3056-4A12-842F-AD5EEF56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616-B06B-4241-B7BD-E70D49F6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667C-610E-46B0-85E8-73D0C4BC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3824-5E75-4578-B59C-77340165C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363680"/>
            <a:ext cx="912816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6Z</dcterms:modified>
  <cp:revision>16</cp:revision>
  <dc:subject/>
  <dc:title>PowerPoint Presentation</dc:title>
</cp:coreProperties>
</file>