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E479-22A2-4359-9A9B-1662DE097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E1E9-A9F5-4681-9A2D-300101A7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56DC-F748-435A-B6E2-F4EFB34BA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9242-C505-4140-8223-2833CACDB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3305-BE82-4093-B6AF-FCFEE9F1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4094-22D4-4082-AA93-774842EF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A2C2-FF59-46B8-9889-705D4B09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17AB-B339-45CF-AC48-1A40184E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54CF-6952-47EA-96B3-585771FF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D9F7-1C24-4E84-BBB1-D83DBAA7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555D-DCCF-4DA9-8851-82FC5924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5CEB-E3F4-44BD-BEDB-9A020459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FABA-2641-41CD-924D-4AA155F716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9440" y="1143000"/>
            <a:ext cx="8925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5Z</dcterms:modified>
  <cp:revision>14</cp:revision>
  <dc:subject/>
  <dc:title>PowerPoint Presentation</dc:title>
</cp:coreProperties>
</file>