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E997-784D-4E1D-9D5D-CFE2B191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F8A6-76AC-47BA-8DD0-0A4C7A0E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8B8C-F502-46EA-A66F-8A6D30C9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C26A-DBBD-400D-ABDB-24CC8A0E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70CD-BB60-4AA4-8971-BCAACA92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9DE4-799A-4B9B-8FE3-835122A0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110D-DE58-4109-88B1-A81E80D3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056D-CA67-4988-9358-AD659803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0222-4FDD-41C1-88A3-0B912274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28FC-A8C9-4F02-B07C-37C29AAA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6381-CF36-4F93-91C9-493BC683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1483-1DD7-4DEE-A83E-F1350156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71AA-A39A-44A2-B759-F2084116C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95560"/>
            <a:ext cx="909648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8Z</dcterms:modified>
  <cp:revision>18</cp:revision>
  <dc:subject/>
  <dc:title>PowerPoint Presentation</dc:title>
</cp:coreProperties>
</file>