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670-BD4B-41BC-9C1E-C6A47C86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870-24C6-4D6A-B1A2-8171CB0B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1319-7E36-44D1-A395-EE2F2A55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8AFE-8849-404C-8623-242443BE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81C4-4516-4527-8672-30EDF1E4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B4D4-1DE8-4DEC-BD1D-6A5470A0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A085-EB77-475E-B0B4-3C4B88AE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86A9-E965-4ACA-90BD-DDAE95C9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9562-FF0D-464A-A226-BC4EA41F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059-DA71-4E04-94DE-4CB3D984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49B-BA9E-4A42-A8E7-30515DF4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C2E-96C3-47A0-BFA7-147FB8D4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C731-A9D5-45C5-AD2F-25DCDB1F7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1Z</dcterms:modified>
  <cp:revision>14</cp:revision>
  <dc:subject/>
  <dc:title>PowerPoint Presentation</dc:title>
</cp:coreProperties>
</file>