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4B8-30B0-4795-BD06-6A1AAE6D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9A7-AA52-4BA5-BA36-9AF66E61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A88-3B61-4AF4-A0AB-26E8E937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18E-8A94-47EB-8FDF-C3B27F7F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C40-6368-4DA1-BE4F-A9DD3001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451-AC87-41EF-9677-538F6B23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FD7-2B23-491B-B7E9-1CF2A759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BC7-E22D-4C25-BE76-6230EE9C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695-7DF7-4727-B454-FCC8E30B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DEE-EDDF-47E3-BD7B-F7B08030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E96-FBCA-4DCC-BE75-0208E8CC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807-C3B4-43E6-A294-06113763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C150-5BE5-4CBB-9F58-B8B6EF4E1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1Z</dcterms:modified>
  <cp:revision>14</cp:revision>
  <dc:subject/>
  <dc:title>PowerPoint Presentation</dc:title>
</cp:coreProperties>
</file>