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0A9E-E990-4DF6-9BC2-DA7369B5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5BA5-E367-4753-A386-9A054F59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28E9-A158-4E39-B723-36481013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B307-0A53-42B2-930B-616E8D8A8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5D81-6E80-4A36-BB30-049DAB95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4672-462D-471B-A126-06032762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8A05-3AA0-4E57-B23A-429E0F5F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252A-605C-4F98-A47B-9A186E76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A625-C0E9-4CCA-A815-CA3DE849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763C-27C8-4005-AA14-EC0787E7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53AD-C810-40AD-B1B5-1629B704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F2FB-28B9-4AF4-BBE6-12C70F1C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D0BD-C402-46BA-902B-E7541D8F41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49200"/>
            <a:ext cx="914400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1Z</dcterms:modified>
  <cp:revision>14</cp:revision>
  <dc:subject/>
  <dc:title>PowerPoint Presentation</dc:title>
</cp:coreProperties>
</file>