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5230-A4BC-4174-B4D6-71E1D3504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48FB-F377-4D0D-8944-DC315699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8AD4-B718-4EA7-AA5C-3B46D8ABB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BDB3-4A63-4377-8705-A4BB8017D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65C5-6519-4309-A3E3-033516BB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17F2-9124-4E93-8310-93E7F5D1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AADA-17AC-464D-B264-8EBA483C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3922-3941-41A6-A2A6-26D8494F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9048-917A-4CBE-B5AB-04539E52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460D-03EC-4B40-BD8B-7885FDE4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C7CE-8672-4406-8E5C-4D9CC936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C93B-9863-4DA4-BC5B-BB75545D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AAC2-1F7E-4763-825C-6DC459610E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0480" y="0"/>
            <a:ext cx="9023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2Z</dcterms:modified>
  <cp:revision>14</cp:revision>
  <dc:subject/>
  <dc:title>PowerPoint Presentation</dc:title>
</cp:coreProperties>
</file>