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EB153-184B-4780-AA31-CC3A80F809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5B | FEDERAL MEDICAID AND CHIP SPENDING PER POOR PERSON, SELECTED STATES, 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3AF7C-82D7-4034-8189-523B60E82C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F13B-A6BF-4F79-BFCA-9B688C82D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BE40-3ED2-460A-B755-81F8FB82E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9CEC-EBCF-4021-BD81-DCD321102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58E3-74E3-477F-B677-4863AE707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2670-5647-4A7A-B515-9E74EFF0D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C511-D5D7-4B0B-B76D-921CBF9D0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A781-551C-4130-9086-1C125BD54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ADF6-68EC-459D-8172-7F21F9C50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0FD9-15C3-4A15-8CB6-BBB38E6E9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E0E1-8199-4279-9622-E76BC919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CEC9-CF17-4986-8C5D-4B74E3E9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79EA-125B-4817-8D5D-6D20F32A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6168F-B895-42A0-BCE3-8081CA6BCA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5b | Federal Medicaid and CHIP spending per poor person varies widely by state, the amount does not decline as state income ri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331120" cy="523728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2057400" y="586728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tates ranked by size of 2008 per capita inc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5b | Federal Medicaid and CHIP spending per poor person varies widely by state, the amount does not decline as state income rises</dc:description>
  <dc:language>en-US</dc:language>
  <cp:lastModifiedBy>Jia Yao</cp:lastModifiedBy>
  <dcterms:modified xsi:type="dcterms:W3CDTF">2013-09-06T13:59:41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5b | Federal Medicaid and CHIP spending per poor person varies widely by state, the amount does not decline as state income rises</vt:lpwstr>
  </property>
</Properties>
</file>