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BE2D-788C-4EFB-A9E5-19CDC27DD9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4 | PUBLIC SPENDING AS A PERCENT OF TOTAL PERSONAL HEALTH CARE EXPENDITURES,  BY SELF-REPORTED HEALTH STATUS, FOR THE U.S. CIVILIAN NON-INSTITUTIONALIZED POPULATION, 200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E9CC-0BFD-4F06-A06F-BF6D6BFAED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B266-1C21-4552-8381-AE4F2D641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9BA3-D38E-42E2-90F2-5EB31455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A94F-5AF9-4D3F-8A71-F92BACFF9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5884-7FB4-4572-95F8-71DB9626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C978-25D5-4718-8953-EAC4EDC4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7A9D-F8BD-4424-98DE-89C9B783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AD25-73DF-4E93-AF92-CEF3D1BC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F919-8EFD-446F-8F4F-7F82940F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E4E1-1DEE-4F1E-AACE-8E8EEDC6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7155-FFDF-4260-9D44-675FCC4C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D6D5-99BA-4408-9E33-18F1E00F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D8C3-941F-4E52-B5EC-8838D0F7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A5DC-F545-461B-8CCE-1B4B58CB2D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4 |  The share of health spending covered by government increases as physical or mental health status dec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3285720" y="5486400"/>
            <a:ext cx="259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lf-reported health status, 20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14520" y="5853240"/>
            <a:ext cx="795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Seldon TM and M Sing. The Distribution of Public Spending for Health Care in the United States, 2002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b Exclusive 2008; 27:5w349–w35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content.healthaffairs.org/cgi/reprint/27/5/w349 (accessed June 14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838080" y="152388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personal health spending paid by government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4 |  The share of health spending covered by government increases as physical or mental health status declines</dc:description>
  <dc:language>en-US</dc:language>
  <cp:lastModifiedBy>Jia Yao</cp:lastModifiedBy>
  <dcterms:modified xsi:type="dcterms:W3CDTF">2013-09-06T13:59:37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4 |  The share of health spending covered by government increases as physical or mental health status declines</vt:lpwstr>
  </property>
</Properties>
</file>