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DC056-1B3C-4C39-97D4-A8275DB977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43A60-2148-4B1B-B140-12CCE28408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5B6C-F777-489E-B9C9-6A92B7218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637B-8B9B-4EB9-8F6C-3F1149E01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6859-BCB9-4E76-A510-002505A33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CB97-010F-4387-A51F-10C87D03F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5E05-9921-44EB-950D-94672192C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502B-2006-49DD-A756-A2E89B0FF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ADFD-02E7-4732-A771-06FF7F2C9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9A0B-4580-4CA1-A7B5-718EAAE8D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23CD-143B-4A61-B726-206077DD8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67E7-783F-441B-B7BC-086323EE6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44DB-503A-4E1D-9110-8C426018E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E1F9-DD1D-48E2-B6EA-38611AD00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F7E54-DA6F-454F-9502-B1576B6F16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"/>
          <p:cNvPicPr/>
          <p:nvPr/>
        </p:nvPicPr>
        <p:blipFill>
          <a:blip r:embed="rId1"/>
          <a:stretch/>
        </p:blipFill>
        <p:spPr>
          <a:xfrm>
            <a:off x="1066680" y="-4680"/>
            <a:ext cx="7005600" cy="68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3:30Z</dcterms:modified>
  <cp:revision>14</cp:revision>
  <dc:subject/>
  <dc:title>PowerPoint Presentation</dc:title>
</cp:coreProperties>
</file>